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1.png" ContentType="image/png"/>
  <Override PartName="/ppt/media/image25.wmf" ContentType="image/x-wmf"/>
  <Override PartName="/ppt/media/image26.png" ContentType="image/png"/>
  <Override PartName="/ppt/media/image39.png" ContentType="image/png"/>
  <Override PartName="/ppt/media/image12.png" ContentType="image/png"/>
  <Override PartName="/ppt/media/image7.wmf" ContentType="image/x-wmf"/>
  <Override PartName="/ppt/media/image37.png" ContentType="image/png"/>
  <Override PartName="/ppt/media/image14.png" ContentType="image/png"/>
  <Override PartName="/ppt/media/image41.png" ContentType="image/png"/>
  <Override PartName="/ppt/media/image9.wmf" ContentType="image/x-wmf"/>
  <Override PartName="/ppt/media/image38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 you Mr. Chair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day, I'm going to talk about octal graph representation for multi-resolution 3D landform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13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ur third purpose is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advantages of our new data struc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wil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are the number of meshes reduce by quadtree with that by landform octal grap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ect.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, let me discuss some prelimin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tal degree rectangular dissection is defined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is an octal graph corresponding to this rectangular diss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rst, we define the set of vertexes denoted by 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put a node corresponding to each cell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ond, we define the set of edges denoted by E and the label function λ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re are no such cells between c and d, then we set an edge denoted by e between their corresponding to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bel of this edge is the north wall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south wall edge, east wall edge, and west wall edge are similarly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south wall edges and west wall edges have been represented by the dotted red line instead of labels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rd, we define the attribute function, α  from V to the set of attribute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cell c has north wall 1, south wall 2, east wall 6, and west wall 2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n we set an attribute to the corresponding node vc is the 4-tuple (1, 2, 6, 2)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example, this one is an octal rectangular dissection graph represented this rectangular diss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cell corresponds to this node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7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a simple of operations on cells, let me show you the algorithm called “Unify-Cel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fy-cell provides the unification of two cells c and d by reducing a vertex and change edges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t me show you our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rst result is concerned with the landform octal gra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21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ndform octal graph is defin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ltitudes in these red circles on this 3dlm are stored in thes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note that the perimeter cells of the rectangular dissection are not displayed in this 3dl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therefore defined the attribute function, α , from the set of vertexes,  V, to the set of attributes, 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ttribute set A includes altitude and other geological and geographical information at each point as well as the positions of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picture is a sample of 3D landform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these are a corresponding rectangular dissection and landform octal graph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pictures are the 3Dlm and corresponding rectangular dissection and corresponding to lo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2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t me introduce the problems, background, motivation, and purpose of this research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27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 will now discuss the characteristics of the landform octal 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t’s look at differences in the computation time for unify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n is the number of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the case of rectangular du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mputation time is proportional to 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cause the number of edges form one vertex is also proportional to the number of adjacent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, in the case of the octal graph, the computation time does not depends on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cause the number of edge form one vertex is at most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7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ccordingly, using Unify-Cell, </a:t>
            </a:r>
            <a:r>
              <a:rPr b="1" lang="en-GB" sz="1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andform octal graph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representation may reduce the number of polygons in focused area in shorten computation time than rectangular 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3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second result concerns with  the implementation of the landform octal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22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7-code is the list structure to make the octal 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based on heterogeneous rectangular dissection code [3] called the H3-code and consists of four 4 bl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rst block is named the header block, which has information about the version of the H7-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second block is named the list block, which stores the attributes of nodes,. their color, and their al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hird block is named the content block, which contains the texture of 3D landform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ourth block is named the tabular layer block, which has information for management of plural H7-code f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3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pictures are the log and corresponding list structure, and details on one list bl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1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is a picture of  Mt. Fuji produced form this a H7-cod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H7-code generator produces H7-code files from numerical attribute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reduced the number of cells in 3dlm by composing H7-code fil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reover, H7-Codes are converted into vrml files, which can be browsed through a Web browser and with VRML plug-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t me show you advantages of our new data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do this, we need to compare the number of meshes reduced quadtree with that by l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We se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s for Input , 1km resolution altitude data of  16km x 16km specified meshed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s for Output,  rough resolution altitude data of sam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dition : Adjacent cells c and d with their horizontal (vertical) walls in common are possibly unified if the difference of altitude of c and d is less than specified difference (threshold value) of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xample f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put area : NAGANO area in Japan, 16 x 16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hreshold Value is 1k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s Outpu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 the case of Quad tree is 55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 the case of landform octal graph is 27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herefore, Octal graphs possibly decrease cells more than quad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15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proposed octal graph representation for multi-resolution 3D landform maps. A landform octal graph is composed of an octal graph, altitude, and color. We implemented a landform octal graph with H7-code. We also proposed a structure for a 3D landform map system and discussed the advantages of the landform octal graph over quad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Future wor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plan to implement a structure for a 3D landform map system in the future and 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xtend to hexadecimal  graph representation for stratum map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16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 will first discuss 3D landform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D landform maps (3dlms) are 3D Computer Graphic of land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We employ  VRML for 3D landform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(right-down picture) shows the basic idea of representation of 3dl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(line of grid) lenghth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the altitude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dlms are generated by a great number of altitude data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this talk, we focus on the grid appearing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 you very much for your kind atten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254240" y="5072040"/>
            <a:ext cx="52257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compare landform octal graph with quadtre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firm in advantage of landform octal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make rectangular dissection of Nagano'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titude data, confirm Unify cell of several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ft up  rectangular dissection be made method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ad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ght down rectangular dissection be m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thod of landform octal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900000" y="5400720"/>
            <a:ext cx="5580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umber of cell of original rectangular dissection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umber of cell of rectangular dissection to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de method of quadtree is 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umber of cell of rectangular dissection to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de method of landform octal graph is 2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fore we show to reduce number of ce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method of landform octal graph than quad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show advantages of landform octal graph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umber of celsl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7-code transformer transform from Attrib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 to H7-code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 to reduce cell H7-code  ope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 Rest Last pic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oal of our wor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pply Octal Graph to 3D Landform Maps, we make the system of rendering and transformation of 3D Landform Maps composed heterogeneous rectangular diss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ader block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st block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ent block and tabular reiyer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ent block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bular reiyer block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12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mputation time for rendering and transforming 3dlm depends on the number of polyg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fore, we need to decrease the number of polygons with consisting of 3D objects keeping their appea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example, one may need fine meshes in certain focused areas, and need rather rough meshes in other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7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this end, to achieve this, we need rectangular dissections (rd) with 3dl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3dml corresponds to this 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note that the perimeter cells of the rectangular dissection are not displayed in this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dl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20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for our background for this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ree sets of results were obtained for 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rst was QuadTree obtained by Bentl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second was rectangular dual obtained by Kozminski and Kin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hird was the Octal degree rectangular dissection graph proposed by our collabora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r. Yaku, Mr. Tsuchida, and Ms. Motohash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employed the octal degree rectangular dissection graph in this re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16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 will now discuss our motivation for this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are a couple of deficiencies with frequently used operations for rectangular dissection corresponding to multi-representation  3D landform maps at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rst is the unification of cells by Quad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second is the computation time to unify cells by rectangular 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fore, 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We design a system rendering and transforming 3D Landform Maps, by using octal degree rectangular dissection graphs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12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will now discuss the purpose of our research and the results we obt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ur first purpose was to develop a new data structure for multi-resolution 3D landform maps to obtain more effective for dynamical changes in re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shows our first result involved the landform octal 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shows our second result involved the H7-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ur second purpose is 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o implement a system rendering and transforming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D Landform Maps using landform octal 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will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design and partially implement system of rendering and transforming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D Landform Maps (sec. 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6440"/>
            <a:ext cx="10080720" cy="67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ctal Graph Representation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ulti-Resolution 3D Landform Maps</a:t>
            </a:r>
            <a:br>
              <a:rPr sz="4000"/>
            </a:br>
            <a:br>
              <a:rPr sz="36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oro Akagi        Yozou Miyadera     Tomoe Motohas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　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Nihon Univ.)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　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Tokyo Gakugei Univ.)   (Kanto Gakuin Univ.)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Kenshi Nomak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Kensei Tsuchida          Takeo Ya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Nihon Univ.)                (Toyo Univ.)                  (Nihon Univ.)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SIAM Conf. Geometric Design &amp; Comput.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        Nov.3, 2005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Phoenix, Arizona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3880" y="900000"/>
            <a:ext cx="918684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Purpose 3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show advantages of our new d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ruc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Result 3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compare the number of meshes reduced by quadtree with that reduced by landform octal graphs (sec. 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3040" y="2932200"/>
            <a:ext cx="85172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 </a:t>
            </a:r>
            <a:r>
              <a:rPr b="1" lang="en-GB" sz="7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liminari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580000" y="3780000"/>
          <a:ext cx="3746520" cy="17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780000"/>
                    <a:ext cx="374652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868320" y="3959280"/>
            <a:ext cx="3449520" cy="1390680"/>
            <a:chOff x="868320" y="3959280"/>
            <a:chExt cx="3449520" cy="1390680"/>
          </a:xfrm>
        </p:grpSpPr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868320" y="3959280"/>
              <a:ext cx="34495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689840" y="4392000"/>
              <a:ext cx="439560" cy="578520"/>
            </a:xfrm>
            <a:custGeom>
              <a:avLst/>
              <a:gdLst>
                <a:gd name="textAreaLeft" fmla="*/ 360 w 439560"/>
                <a:gd name="textAreaRight" fmla="*/ 439200 w 439560"/>
                <a:gd name="textAreaTop" fmla="*/ 360 h 578520"/>
                <a:gd name="textAreaBottom" fmla="*/ 578160 h 578520"/>
              </a:gdLst>
              <a:ahLst/>
              <a:rect l="textAreaLeft" t="textAreaTop" r="textAreaRight" b="textAreaBottom"/>
              <a:pathLst>
                <a:path w="21600" h="28423">
                  <a:moveTo>
                    <a:pt x="78" y="0"/>
                  </a:moveTo>
                  <a:arcTo wR="78" hR="78" stAng="16200000" swAng="-5400000"/>
                  <a:lnTo>
                    <a:pt x="0" y="28345"/>
                  </a:lnTo>
                  <a:arcTo wR="78" hR="78" stAng="10800000" swAng="-5400000"/>
                  <a:lnTo>
                    <a:pt x="21522" y="28423"/>
                  </a:lnTo>
                  <a:arcTo wR="78" hR="78" stAng="5400000" swAng="-5400000"/>
                  <a:lnTo>
                    <a:pt x="21600" y="78"/>
                  </a:lnTo>
                  <a:arcTo wR="78" hR="7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54720" y="4512600"/>
              <a:ext cx="398160" cy="578520"/>
            </a:xfrm>
            <a:custGeom>
              <a:avLst/>
              <a:gdLst>
                <a:gd name="textAreaLeft" fmla="*/ 360 w 398160"/>
                <a:gd name="textAreaRight" fmla="*/ 397800 w 398160"/>
                <a:gd name="textAreaTop" fmla="*/ 360 h 578520"/>
                <a:gd name="textAreaBottom" fmla="*/ 578160 h 578520"/>
              </a:gdLst>
              <a:ahLst/>
              <a:rect l="textAreaLeft" t="textAreaTop" r="textAreaRight" b="textAreaBottom"/>
              <a:pathLst>
                <a:path w="21600" h="31376">
                  <a:moveTo>
                    <a:pt x="86" y="0"/>
                  </a:moveTo>
                  <a:arcTo wR="86" hR="86" stAng="16200000" swAng="-5400000"/>
                  <a:lnTo>
                    <a:pt x="0" y="31290"/>
                  </a:lnTo>
                  <a:arcTo wR="86" hR="86" stAng="10800000" swAng="-5400000"/>
                  <a:lnTo>
                    <a:pt x="21514" y="31376"/>
                  </a:lnTo>
                  <a:arcTo wR="86" hR="86" stAng="5400000" swAng="-5400000"/>
                  <a:lnTo>
                    <a:pt x="21600" y="86"/>
                  </a:lnTo>
                  <a:arcTo wR="86" hR="8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714920" y="4680000"/>
            <a:ext cx="6858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" y="360360"/>
            <a:ext cx="9072720" cy="67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 = (T, P, g) : a  rectangular dissection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  <a:ea typeface="ＭＳ Ｐゴシック"/>
              </a:rPr>
              <a:t>The octal degree rectangular dissection graph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G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Times New Roman"/>
                <a:ea typeface="ＭＳ Ｐゴシック"/>
              </a:rPr>
              <a:t>D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=(V, E, L, λ, A, α)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or D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e3e3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1)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V :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(the set of vertex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We put a node corresponding to each cell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                                            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1480" y="5576760"/>
            <a:ext cx="68580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10621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（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</a:t>
            </a:r>
            <a:r>
              <a:rPr b="1" lang="ja-JP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）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 : (the set of edge),λ : E → A : (label function)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           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                       E        λ(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22760" y="2173320"/>
            <a:ext cx="1277640" cy="203040"/>
            <a:chOff x="5522760" y="2173320"/>
            <a:chExt cx="1277640" cy="203040"/>
          </a:xfrm>
        </p:grpSpPr>
        <p:sp>
          <p:nvSpPr>
            <p:cNvPr id="106" name=""/>
            <p:cNvSpPr/>
            <p:nvPr/>
          </p:nvSpPr>
          <p:spPr>
            <a:xfrm>
              <a:off x="5670360" y="2273760"/>
              <a:ext cx="10299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22760" y="2173320"/>
              <a:ext cx="245880" cy="20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54520" y="2173320"/>
              <a:ext cx="245880" cy="20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06600" y="1876320"/>
            <a:ext cx="552600" cy="446040"/>
          </a:xfrm>
          <a:prstGeom prst="roundRect">
            <a:avLst>
              <a:gd name="adj" fmla="val 35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68680" y="1876320"/>
            <a:ext cx="571680" cy="662040"/>
          </a:xfrm>
          <a:custGeom>
            <a:avLst/>
            <a:gdLst>
              <a:gd name="textAreaLeft" fmla="*/ 360 w 571680"/>
              <a:gd name="textAreaRight" fmla="*/ 571320 w 571680"/>
              <a:gd name="textAreaTop" fmla="*/ 360 h 662040"/>
              <a:gd name="textAreaBottom" fmla="*/ 661680 h 662040"/>
            </a:gdLst>
            <a:ahLst/>
            <a:rect l="textAreaLeft" t="textAreaTop" r="textAreaRight" b="textAreaBottom"/>
            <a:pathLst>
              <a:path w="21600" h="25012">
                <a:moveTo>
                  <a:pt x="60" y="0"/>
                </a:moveTo>
                <a:arcTo wR="60" hR="60" stAng="16200000" swAng="-5400000"/>
                <a:lnTo>
                  <a:pt x="0" y="24952"/>
                </a:lnTo>
                <a:arcTo wR="60" hR="60" stAng="10800000" swAng="-5400000"/>
                <a:lnTo>
                  <a:pt x="21540" y="25012"/>
                </a:lnTo>
                <a:arcTo wR="60" hR="60" stAng="5400000" swAng="-5400000"/>
                <a:lnTo>
                  <a:pt x="21600" y="60"/>
                </a:lnTo>
                <a:arcTo wR="60" hR="6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87480" y="1876320"/>
            <a:ext cx="781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1360" y="1795320"/>
            <a:ext cx="371520" cy="519120"/>
          </a:xfrm>
          <a:custGeom>
            <a:avLst/>
            <a:gdLst>
              <a:gd name="textAreaLeft" fmla="*/ 360 w 371520"/>
              <a:gd name="textAreaRight" fmla="*/ 371160 w 371520"/>
              <a:gd name="textAreaTop" fmla="*/ 360 h 519120"/>
              <a:gd name="textAreaBottom" fmla="*/ 518760 h 519120"/>
            </a:gdLst>
            <a:ahLst/>
            <a:rect l="textAreaLeft" t="textAreaTop" r="textAreaRight" b="textAreaBottom"/>
            <a:pathLst>
              <a:path w="21600" h="30173">
                <a:moveTo>
                  <a:pt x="92" y="0"/>
                </a:moveTo>
                <a:arcTo wR="92" hR="92" stAng="16200000" swAng="-5400000"/>
                <a:lnTo>
                  <a:pt x="0" y="30081"/>
                </a:lnTo>
                <a:arcTo wR="92" hR="92" stAng="10800000" swAng="-5400000"/>
                <a:lnTo>
                  <a:pt x="21508" y="30173"/>
                </a:lnTo>
                <a:arcTo wR="92" hR="92" stAng="5400000" swAng="-5400000"/>
                <a:lnTo>
                  <a:pt x="21600" y="92"/>
                </a:lnTo>
                <a:arcTo wR="92" hR="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2920" y="1928880"/>
            <a:ext cx="407880" cy="519120"/>
          </a:xfrm>
          <a:custGeom>
            <a:avLst/>
            <a:gdLst>
              <a:gd name="textAreaLeft" fmla="*/ 360 w 407880"/>
              <a:gd name="textAreaRight" fmla="*/ 407520 w 407880"/>
              <a:gd name="textAreaTop" fmla="*/ 360 h 519120"/>
              <a:gd name="textAreaBottom" fmla="*/ 518760 h 519120"/>
            </a:gdLst>
            <a:ahLst/>
            <a:rect l="textAreaLeft" t="textAreaTop" r="textAreaRight" b="textAreaBottom"/>
            <a:pathLst>
              <a:path w="21600" h="27486">
                <a:moveTo>
                  <a:pt x="84" y="0"/>
                </a:moveTo>
                <a:arcTo wR="84" hR="84" stAng="16200000" swAng="-5400000"/>
                <a:lnTo>
                  <a:pt x="0" y="27402"/>
                </a:lnTo>
                <a:arcTo wR="84" hR="84" stAng="10800000" swAng="-5400000"/>
                <a:lnTo>
                  <a:pt x="21516" y="27486"/>
                </a:lnTo>
                <a:arcTo wR="84" hR="84" stAng="5400000" swAng="-5400000"/>
                <a:lnTo>
                  <a:pt x="21600" y="84"/>
                </a:lnTo>
                <a:arcTo wR="84" hR="8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95440" y="3200400"/>
            <a:ext cx="371520" cy="519120"/>
          </a:xfrm>
          <a:custGeom>
            <a:avLst/>
            <a:gdLst>
              <a:gd name="textAreaLeft" fmla="*/ 360 w 371520"/>
              <a:gd name="textAreaRight" fmla="*/ 371160 w 371520"/>
              <a:gd name="textAreaTop" fmla="*/ 360 h 519120"/>
              <a:gd name="textAreaBottom" fmla="*/ 518760 h 519120"/>
            </a:gdLst>
            <a:ahLst/>
            <a:rect l="textAreaLeft" t="textAreaTop" r="textAreaRight" b="textAreaBottom"/>
            <a:pathLst>
              <a:path w="21600" h="30173">
                <a:moveTo>
                  <a:pt x="92" y="0"/>
                </a:moveTo>
                <a:arcTo wR="92" hR="92" stAng="16200000" swAng="-5400000"/>
                <a:lnTo>
                  <a:pt x="0" y="30081"/>
                </a:lnTo>
                <a:arcTo wR="92" hR="92" stAng="10800000" swAng="-5400000"/>
                <a:lnTo>
                  <a:pt x="21508" y="30173"/>
                </a:lnTo>
                <a:arcTo wR="92" hR="92" stAng="5400000" swAng="-5400000"/>
                <a:lnTo>
                  <a:pt x="21600" y="92"/>
                </a:lnTo>
                <a:arcTo wR="92" hR="92" stAng="0" swAng="-5400000"/>
                <a:close/>
              </a:path>
            </a:pathLst>
          </a:cu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3568680" y="3041640"/>
            <a:ext cx="571680" cy="660240"/>
          </a:xfrm>
          <a:custGeom>
            <a:avLst/>
            <a:gdLst>
              <a:gd name="textAreaLeft" fmla="*/ 360 w 571680"/>
              <a:gd name="textAreaRight" fmla="*/ 571320 w 571680"/>
              <a:gd name="textAreaTop" fmla="*/ 360 h 660240"/>
              <a:gd name="textAreaBottom" fmla="*/ 659880 h 660240"/>
            </a:gdLst>
            <a:ahLst/>
            <a:rect l="textAreaLeft" t="textAreaTop" r="textAreaRight" b="textAreaBottom"/>
            <a:pathLst>
              <a:path w="21600" h="24944">
                <a:moveTo>
                  <a:pt x="60" y="0"/>
                </a:moveTo>
                <a:arcTo wR="60" hR="60" stAng="16200000" swAng="-5400000"/>
                <a:lnTo>
                  <a:pt x="0" y="24884"/>
                </a:lnTo>
                <a:arcTo wR="60" hR="60" stAng="10800000" swAng="-5400000"/>
                <a:lnTo>
                  <a:pt x="21540" y="24944"/>
                </a:lnTo>
                <a:arcTo wR="60" hR="60" stAng="5400000" swAng="-5400000"/>
                <a:lnTo>
                  <a:pt x="21600" y="60"/>
                </a:lnTo>
                <a:arcTo wR="60" hR="6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06560" y="3700440"/>
            <a:ext cx="7812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65520" y="3105000"/>
            <a:ext cx="407880" cy="519120"/>
          </a:xfrm>
          <a:custGeom>
            <a:avLst/>
            <a:gdLst>
              <a:gd name="textAreaLeft" fmla="*/ 360 w 407880"/>
              <a:gd name="textAreaRight" fmla="*/ 407520 w 407880"/>
              <a:gd name="textAreaTop" fmla="*/ 360 h 519120"/>
              <a:gd name="textAreaBottom" fmla="*/ 518760 h 519120"/>
            </a:gdLst>
            <a:ahLst/>
            <a:rect l="textAreaLeft" t="textAreaTop" r="textAreaRight" b="textAreaBottom"/>
            <a:pathLst>
              <a:path w="21600" h="27486">
                <a:moveTo>
                  <a:pt x="84" y="0"/>
                </a:moveTo>
                <a:arcTo wR="84" hR="84" stAng="16200000" swAng="-5400000"/>
                <a:lnTo>
                  <a:pt x="0" y="27402"/>
                </a:lnTo>
                <a:arcTo wR="84" hR="84" stAng="10800000" swAng="-5400000"/>
                <a:lnTo>
                  <a:pt x="21516" y="27486"/>
                </a:lnTo>
                <a:arcTo wR="84" hR="84" stAng="5400000" swAng="-5400000"/>
                <a:lnTo>
                  <a:pt x="21600" y="84"/>
                </a:lnTo>
                <a:arcTo wR="84" hR="8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054960" y="4012200"/>
            <a:ext cx="446040" cy="552240"/>
          </a:xfrm>
          <a:custGeom>
            <a:avLst/>
            <a:gdLst>
              <a:gd name="textAreaLeft" fmla="*/ 360 w 446040"/>
              <a:gd name="textAreaRight" fmla="*/ 445680 w 446040"/>
              <a:gd name="textAreaTop" fmla="*/ 360 h 552240"/>
              <a:gd name="textAreaBottom" fmla="*/ 551880 h 552240"/>
            </a:gdLst>
            <a:ahLst/>
            <a:rect l="textAreaLeft" t="textAreaTop" r="textAreaRight" b="textAreaBottom"/>
            <a:pathLst>
              <a:path w="21600" h="26739">
                <a:moveTo>
                  <a:pt x="77" y="0"/>
                </a:moveTo>
                <a:arcTo wR="77" hR="77" stAng="16200000" swAng="-5400000"/>
                <a:lnTo>
                  <a:pt x="0" y="26662"/>
                </a:lnTo>
                <a:arcTo wR="77" hR="77" stAng="10800000" swAng="-5400000"/>
                <a:lnTo>
                  <a:pt x="21523" y="26739"/>
                </a:lnTo>
                <a:arcTo wR="77" hR="77" stAng="5400000" swAng="-5400000"/>
                <a:lnTo>
                  <a:pt x="21600" y="77"/>
                </a:lnTo>
                <a:arcTo wR="77" hR="77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2913120" y="4809240"/>
            <a:ext cx="462240" cy="819000"/>
          </a:xfrm>
          <a:custGeom>
            <a:avLst/>
            <a:gdLst>
              <a:gd name="textAreaLeft" fmla="*/ 360 w 462240"/>
              <a:gd name="textAreaRight" fmla="*/ 461880 w 462240"/>
              <a:gd name="textAreaTop" fmla="*/ 360 h 819000"/>
              <a:gd name="textAreaBottom" fmla="*/ 818640 h 819000"/>
            </a:gdLst>
            <a:ahLst/>
            <a:rect l="textAreaLeft" t="textAreaTop" r="textAreaRight" b="textAreaBottom"/>
            <a:pathLst>
              <a:path w="21600" h="38258">
                <a:moveTo>
                  <a:pt x="74" y="0"/>
                </a:moveTo>
                <a:arcTo wR="74" hR="74" stAng="16200000" swAng="-5400000"/>
                <a:lnTo>
                  <a:pt x="0" y="38184"/>
                </a:lnTo>
                <a:arcTo wR="74" hR="74" stAng="10800000" swAng="-5400000"/>
                <a:lnTo>
                  <a:pt x="21526" y="38258"/>
                </a:lnTo>
                <a:arcTo wR="74" hR="74" stAng="5400000" swAng="-5400000"/>
                <a:lnTo>
                  <a:pt x="21600" y="74"/>
                </a:lnTo>
                <a:arcTo wR="74" hR="74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2840" y="4371840"/>
            <a:ext cx="1440" cy="63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9160" y="3987720"/>
            <a:ext cx="371520" cy="519120"/>
          </a:xfrm>
          <a:custGeom>
            <a:avLst/>
            <a:gdLst>
              <a:gd name="textAreaLeft" fmla="*/ 360 w 371520"/>
              <a:gd name="textAreaRight" fmla="*/ 371160 w 371520"/>
              <a:gd name="textAreaTop" fmla="*/ 360 h 519120"/>
              <a:gd name="textAreaBottom" fmla="*/ 518760 h 519120"/>
            </a:gdLst>
            <a:ahLst/>
            <a:rect l="textAreaLeft" t="textAreaTop" r="textAreaRight" b="textAreaBottom"/>
            <a:pathLst>
              <a:path w="21600" h="30173">
                <a:moveTo>
                  <a:pt x="92" y="0"/>
                </a:moveTo>
                <a:arcTo wR="92" hR="92" stAng="16200000" swAng="-5400000"/>
                <a:lnTo>
                  <a:pt x="0" y="30081"/>
                </a:lnTo>
                <a:arcTo wR="92" hR="92" stAng="10800000" swAng="-5400000"/>
                <a:lnTo>
                  <a:pt x="21508" y="30173"/>
                </a:lnTo>
                <a:arcTo wR="92" hR="92" stAng="5400000" swAng="-5400000"/>
                <a:lnTo>
                  <a:pt x="21600" y="92"/>
                </a:lnTo>
                <a:arcTo wR="92" hR="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940280"/>
            <a:ext cx="408240" cy="519120"/>
          </a:xfrm>
          <a:custGeom>
            <a:avLst/>
            <a:gdLst>
              <a:gd name="textAreaLeft" fmla="*/ 360 w 408240"/>
              <a:gd name="textAreaRight" fmla="*/ 407880 w 408240"/>
              <a:gd name="textAreaTop" fmla="*/ 360 h 519120"/>
              <a:gd name="textAreaBottom" fmla="*/ 518760 h 519120"/>
            </a:gdLst>
            <a:ahLst/>
            <a:rect l="textAreaLeft" t="textAreaTop" r="textAreaRight" b="textAreaBottom"/>
            <a:pathLst>
              <a:path w="21600" h="27461">
                <a:moveTo>
                  <a:pt x="84" y="0"/>
                </a:moveTo>
                <a:arcTo wR="84" hR="84" stAng="16200000" swAng="-5400000"/>
                <a:lnTo>
                  <a:pt x="0" y="27377"/>
                </a:lnTo>
                <a:arcTo wR="84" hR="84" stAng="10800000" swAng="-5400000"/>
                <a:lnTo>
                  <a:pt x="21516" y="27461"/>
                </a:lnTo>
                <a:arcTo wR="84" hR="84" stAng="5400000" swAng="-5400000"/>
                <a:lnTo>
                  <a:pt x="21600" y="84"/>
                </a:lnTo>
                <a:arcTo wR="84" hR="8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2784960" y="6682320"/>
            <a:ext cx="446400" cy="552600"/>
          </a:xfrm>
          <a:custGeom>
            <a:avLst/>
            <a:gdLst>
              <a:gd name="textAreaLeft" fmla="*/ 360 w 446400"/>
              <a:gd name="textAreaRight" fmla="*/ 446040 w 446400"/>
              <a:gd name="textAreaTop" fmla="*/ 360 h 552600"/>
              <a:gd name="textAreaBottom" fmla="*/ 552240 h 552600"/>
            </a:gdLst>
            <a:ahLst/>
            <a:rect l="textAreaLeft" t="textAreaTop" r="textAreaRight" b="textAreaBottom"/>
            <a:pathLst>
              <a:path w="21600" h="26735">
                <a:moveTo>
                  <a:pt x="77" y="0"/>
                </a:moveTo>
                <a:arcTo wR="77" hR="77" stAng="16200000" swAng="-5400000"/>
                <a:lnTo>
                  <a:pt x="0" y="26658"/>
                </a:lnTo>
                <a:arcTo wR="77" hR="77" stAng="10800000" swAng="-5400000"/>
                <a:lnTo>
                  <a:pt x="21523" y="26735"/>
                </a:lnTo>
                <a:arcTo wR="77" hR="77" stAng="5400000" swAng="-5400000"/>
                <a:lnTo>
                  <a:pt x="21600" y="77"/>
                </a:lnTo>
                <a:arcTo wR="77" hR="77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910600" y="5618880"/>
            <a:ext cx="462240" cy="819360"/>
          </a:xfrm>
          <a:custGeom>
            <a:avLst/>
            <a:gdLst>
              <a:gd name="textAreaLeft" fmla="*/ 360 w 462240"/>
              <a:gd name="textAreaRight" fmla="*/ 461880 w 462240"/>
              <a:gd name="textAreaTop" fmla="*/ 360 h 819360"/>
              <a:gd name="textAreaBottom" fmla="*/ 819000 h 819360"/>
            </a:gdLst>
            <a:ahLst/>
            <a:rect l="textAreaLeft" t="textAreaTop" r="textAreaRight" b="textAreaBottom"/>
            <a:pathLst>
              <a:path w="21600" h="38275">
                <a:moveTo>
                  <a:pt x="74" y="0"/>
                </a:moveTo>
                <a:arcTo wR="74" hR="74" stAng="16200000" swAng="-5400000"/>
                <a:lnTo>
                  <a:pt x="0" y="38201"/>
                </a:lnTo>
                <a:arcTo wR="74" hR="74" stAng="10800000" swAng="-5400000"/>
                <a:lnTo>
                  <a:pt x="21526" y="38275"/>
                </a:lnTo>
                <a:arcTo wR="74" hR="74" stAng="5400000" swAng="-5400000"/>
                <a:lnTo>
                  <a:pt x="21600" y="74"/>
                </a:lnTo>
                <a:arcTo wR="74" hR="74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33840" y="6240240"/>
            <a:ext cx="1440" cy="6332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5040" y="5721480"/>
            <a:ext cx="371520" cy="519120"/>
          </a:xfrm>
          <a:custGeom>
            <a:avLst/>
            <a:gdLst>
              <a:gd name="textAreaLeft" fmla="*/ 360 w 371520"/>
              <a:gd name="textAreaRight" fmla="*/ 371160 w 371520"/>
              <a:gd name="textAreaTop" fmla="*/ 360 h 519120"/>
              <a:gd name="textAreaBottom" fmla="*/ 518760 h 519120"/>
            </a:gdLst>
            <a:ahLst/>
            <a:rect l="textAreaLeft" t="textAreaTop" r="textAreaRight" b="textAreaBottom"/>
            <a:pathLst>
              <a:path w="21600" h="30173">
                <a:moveTo>
                  <a:pt x="92" y="0"/>
                </a:moveTo>
                <a:arcTo wR="92" hR="92" stAng="16200000" swAng="-5400000"/>
                <a:lnTo>
                  <a:pt x="0" y="30081"/>
                </a:lnTo>
                <a:arcTo wR="92" hR="92" stAng="10800000" swAng="-5400000"/>
                <a:lnTo>
                  <a:pt x="21508" y="30173"/>
                </a:lnTo>
                <a:arcTo wR="92" hR="92" stAng="5400000" swAng="-5400000"/>
                <a:lnTo>
                  <a:pt x="21600" y="92"/>
                </a:lnTo>
                <a:arcTo wR="92" hR="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01880" y="6692760"/>
            <a:ext cx="407880" cy="519120"/>
          </a:xfrm>
          <a:custGeom>
            <a:avLst/>
            <a:gdLst>
              <a:gd name="textAreaLeft" fmla="*/ 360 w 407880"/>
              <a:gd name="textAreaRight" fmla="*/ 407520 w 407880"/>
              <a:gd name="textAreaTop" fmla="*/ 360 h 519120"/>
              <a:gd name="textAreaBottom" fmla="*/ 518760 h 519120"/>
            </a:gdLst>
            <a:ahLst/>
            <a:rect l="textAreaLeft" t="textAreaTop" r="textAreaRight" b="textAreaBottom"/>
            <a:pathLst>
              <a:path w="21600" h="27486">
                <a:moveTo>
                  <a:pt x="84" y="0"/>
                </a:moveTo>
                <a:arcTo wR="84" hR="84" stAng="16200000" swAng="-5400000"/>
                <a:lnTo>
                  <a:pt x="0" y="27402"/>
                </a:lnTo>
                <a:arcTo wR="84" hR="84" stAng="10800000" swAng="-5400000"/>
                <a:lnTo>
                  <a:pt x="21516" y="27486"/>
                </a:lnTo>
                <a:arcTo wR="84" hR="84" stAng="5400000" swAng="-5400000"/>
                <a:lnTo>
                  <a:pt x="21600" y="84"/>
                </a:lnTo>
                <a:arcTo wR="84" hR="8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13720" y="1428840"/>
            <a:ext cx="2233440" cy="4789440"/>
          </a:xfrm>
          <a:custGeom>
            <a:avLst/>
            <a:gdLst>
              <a:gd name="textAreaLeft" fmla="*/ 360 w 2233440"/>
              <a:gd name="textAreaRight" fmla="*/ 2233080 w 2233440"/>
              <a:gd name="textAreaTop" fmla="*/ 360 h 4789440"/>
              <a:gd name="textAreaBottom" fmla="*/ 4789080 h 4789440"/>
            </a:gdLst>
            <a:ahLst/>
            <a:rect l="textAreaLeft" t="textAreaTop" r="textAreaRight" b="textAreaBottom"/>
            <a:pathLst>
              <a:path w="21600" h="46316">
                <a:moveTo>
                  <a:pt x="15" y="0"/>
                </a:moveTo>
                <a:arcTo wR="15" hR="15" stAng="16200000" swAng="-5400000"/>
                <a:lnTo>
                  <a:pt x="0" y="46301"/>
                </a:lnTo>
                <a:arcTo wR="15" hR="15" stAng="10800000" swAng="-5400000"/>
                <a:lnTo>
                  <a:pt x="21585" y="46316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rth w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outh W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ast W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est W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52920" y="6526080"/>
            <a:ext cx="68580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52920" y="4781520"/>
            <a:ext cx="6858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97760" y="4494240"/>
            <a:ext cx="2880" cy="70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56280" y="5176800"/>
            <a:ext cx="29052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6280" y="4278240"/>
            <a:ext cx="29052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57520"/>
            <a:ext cx="34750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863640" indent="-287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w(c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87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= nw(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49840" y="3005280"/>
            <a:ext cx="41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884320"/>
            <a:ext cx="34750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863640" indent="-287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w(c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87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= sw(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65520" y="3492360"/>
            <a:ext cx="68580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9920" y="2273400"/>
            <a:ext cx="6858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199040"/>
            <a:ext cx="34750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863640" indent="-287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w(c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87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= ew(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000" y="5877000"/>
            <a:ext cx="34750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863640" indent="-287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ww(c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87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= ww(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580000" y="3395520"/>
            <a:ext cx="1277640" cy="203400"/>
            <a:chOff x="5580000" y="3395520"/>
            <a:chExt cx="1277640" cy="203400"/>
          </a:xfrm>
        </p:grpSpPr>
        <p:sp>
          <p:nvSpPr>
            <p:cNvPr id="143" name=""/>
            <p:cNvSpPr/>
            <p:nvPr/>
          </p:nvSpPr>
          <p:spPr>
            <a:xfrm>
              <a:off x="5727240" y="3497760"/>
              <a:ext cx="1030680" cy="108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3395520"/>
              <a:ext cx="245880" cy="20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12120" y="3395520"/>
              <a:ext cx="245520" cy="20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29440" y="6261120"/>
            <a:ext cx="3240" cy="701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86520" y="6943680"/>
            <a:ext cx="29052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87960" y="6045120"/>
            <a:ext cx="29052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78880" y="3419640"/>
            <a:ext cx="378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8880" y="2195640"/>
            <a:ext cx="378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94520" y="4572000"/>
            <a:ext cx="378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94520" y="6372360"/>
            <a:ext cx="378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7280" y="247680"/>
            <a:ext cx="921708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（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</a:t>
            </a:r>
            <a:r>
              <a:rPr b="1" lang="ja-JP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） 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A : (the set of the attributes)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      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α : V → A : (attribute function)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             </a:t>
            </a:r>
            <a:r>
              <a:rPr b="1" lang="en-GB" sz="4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                               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74000" y="3071880"/>
            <a:ext cx="253800" cy="253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51360" y="3214800"/>
            <a:ext cx="2190960" cy="1311120"/>
          </a:xfrm>
          <a:prstGeom prst="roundRect">
            <a:avLst>
              <a:gd name="adj" fmla="val 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68720" y="3348000"/>
            <a:ext cx="49536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9960" y="4260960"/>
            <a:ext cx="4586400" cy="119052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08000" y="2627280"/>
            <a:ext cx="3451320" cy="1392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54440" y="3154320"/>
            <a:ext cx="398520" cy="579600"/>
          </a:xfrm>
          <a:custGeom>
            <a:avLst/>
            <a:gdLst>
              <a:gd name="textAreaLeft" fmla="*/ 360 w 398520"/>
              <a:gd name="textAreaRight" fmla="*/ 398160 w 398520"/>
              <a:gd name="textAreaTop" fmla="*/ 360 h 579600"/>
              <a:gd name="textAreaBottom" fmla="*/ 579240 h 579600"/>
            </a:gdLst>
            <a:ahLst/>
            <a:rect l="textAreaLeft" t="textAreaTop" r="textAreaRight" b="textAreaBottom"/>
            <a:pathLst>
              <a:path w="21600" h="31406">
                <a:moveTo>
                  <a:pt x="86" y="0"/>
                </a:moveTo>
                <a:arcTo wR="86" hR="86" stAng="16200000" swAng="-5400000"/>
                <a:lnTo>
                  <a:pt x="0" y="31320"/>
                </a:lnTo>
                <a:arcTo wR="86" hR="86" stAng="10800000" swAng="-5400000"/>
                <a:lnTo>
                  <a:pt x="21514" y="31406"/>
                </a:lnTo>
                <a:arcTo wR="86" hR="86" stAng="5400000" swAng="-5400000"/>
                <a:lnTo>
                  <a:pt x="21600" y="86"/>
                </a:lnTo>
                <a:arcTo wR="86" hR="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89160" y="2023920"/>
            <a:ext cx="1832040" cy="64152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2       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2640" y="2900520"/>
            <a:ext cx="474840" cy="1190520"/>
          </a:xfrm>
          <a:custGeom>
            <a:avLst/>
            <a:gdLst>
              <a:gd name="textAreaLeft" fmla="*/ 360 w 474840"/>
              <a:gd name="textAreaRight" fmla="*/ 474480 w 474840"/>
              <a:gd name="textAreaTop" fmla="*/ 360 h 1190520"/>
              <a:gd name="textAreaBottom" fmla="*/ 1190160 h 1190520"/>
            </a:gdLst>
            <a:ahLst/>
            <a:rect l="textAreaLeft" t="textAreaTop" r="textAreaRight" b="textAreaBottom"/>
            <a:pathLst>
              <a:path w="21600" h="54131">
                <a:moveTo>
                  <a:pt x="72" y="0"/>
                </a:moveTo>
                <a:arcTo wR="72" hR="72" stAng="16200000" swAng="-5400000"/>
                <a:lnTo>
                  <a:pt x="0" y="54059"/>
                </a:lnTo>
                <a:arcTo wR="72" hR="72" stAng="10800000" swAng="-5400000"/>
                <a:lnTo>
                  <a:pt x="21528" y="54131"/>
                </a:lnTo>
                <a:arcTo wR="72" hR="72" stAng="5400000" swAng="-5400000"/>
                <a:lnTo>
                  <a:pt x="21600" y="72"/>
                </a:lnTo>
                <a:arcTo wR="72" hR="7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7640" y="3851280"/>
            <a:ext cx="4321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α(</a:t>
            </a:r>
            <a:r>
              <a:rPr b="1" lang="en-GB" sz="4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v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)=(1,2,6,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400" y="4119480"/>
            <a:ext cx="68025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w(c)=1  sw(c)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w(c)=6  ww(c)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13440" y="3348000"/>
            <a:ext cx="6332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v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4200" y="6516720"/>
            <a:ext cx="9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we set an attribute to the corresponding node vc is the 4-tuple (1, 2, 6, 2)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92200" y="1911240"/>
            <a:ext cx="63039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400720" y="2879640"/>
          <a:ext cx="3376440" cy="227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720" y="2879640"/>
                    <a:ext cx="337644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038240" y="2828880"/>
          <a:ext cx="3206880" cy="23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8240" y="2828880"/>
                    <a:ext cx="320688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743040" y="638640"/>
            <a:ext cx="860904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ample of Octal degree  Rectangular Dissection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68000" y="5651640"/>
            <a:ext cx="2769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tangul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s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11640" y="5292720"/>
            <a:ext cx="4680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Corresponding octal rectangular dissectio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3280" y="1042920"/>
            <a:ext cx="87012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Unify-Cells (Unification of vertically adjacent cell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0720" y="3851280"/>
            <a:ext cx="864072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78000" y="5369040"/>
            <a:ext cx="3906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13480" y="5369040"/>
            <a:ext cx="4636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96920" y="6458040"/>
            <a:ext cx="4255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079640" y="3311640"/>
            <a:ext cx="2495160" cy="1458360"/>
            <a:chOff x="1079640" y="3311640"/>
            <a:chExt cx="2495160" cy="1458360"/>
          </a:xfrm>
        </p:grpSpPr>
        <p:sp>
          <p:nvSpPr>
            <p:cNvPr id="182" name=""/>
            <p:cNvSpPr/>
            <p:nvPr/>
          </p:nvSpPr>
          <p:spPr>
            <a:xfrm>
              <a:off x="3073680" y="440460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74360" y="440460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78280" y="4404600"/>
              <a:ext cx="4975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78960" y="440460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9640" y="440460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73680" y="4039920"/>
              <a:ext cx="499320" cy="36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74360" y="4039920"/>
              <a:ext cx="499320" cy="36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78280" y="4039920"/>
              <a:ext cx="497520" cy="36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7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79640" y="4039920"/>
              <a:ext cx="499320" cy="36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73680" y="367560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74360" y="367560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21040" y="3670920"/>
              <a:ext cx="67680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7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22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8960" y="3675600"/>
              <a:ext cx="499320" cy="72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79640" y="367560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73680" y="331164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74360" y="331164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78280" y="3311640"/>
              <a:ext cx="4975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78960" y="331164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79640" y="3311640"/>
              <a:ext cx="499320" cy="36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9640" y="3311640"/>
              <a:ext cx="2492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79640" y="3675600"/>
              <a:ext cx="49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79640" y="4039920"/>
              <a:ext cx="49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79640" y="4404600"/>
              <a:ext cx="4993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79640" y="4768920"/>
              <a:ext cx="2492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79640" y="3311640"/>
              <a:ext cx="1080" cy="145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78960" y="3311640"/>
              <a:ext cx="1080" cy="3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78280" y="3311640"/>
              <a:ext cx="1080" cy="3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74360" y="3311640"/>
              <a:ext cx="1080" cy="3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73680" y="3311640"/>
              <a:ext cx="1080" cy="3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3360" y="3311640"/>
              <a:ext cx="1440" cy="145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78280" y="4039920"/>
              <a:ext cx="995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78280" y="3675600"/>
              <a:ext cx="10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73680" y="3675600"/>
              <a:ext cx="49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78960" y="3675600"/>
              <a:ext cx="1494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74360" y="3675600"/>
              <a:ext cx="10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78960" y="4404600"/>
              <a:ext cx="1080" cy="3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78960" y="3675600"/>
              <a:ext cx="10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78280" y="4404600"/>
              <a:ext cx="1080" cy="3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3680" y="4039920"/>
              <a:ext cx="49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74360" y="4404600"/>
              <a:ext cx="1080" cy="3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73680" y="4404600"/>
              <a:ext cx="1080" cy="3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73680" y="3675600"/>
              <a:ext cx="10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73680" y="4404600"/>
              <a:ext cx="4993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78960" y="4404600"/>
              <a:ext cx="149472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02240" y="3297240"/>
            <a:ext cx="2415960" cy="1452240"/>
            <a:chOff x="6402240" y="3297240"/>
            <a:chExt cx="2415960" cy="1452240"/>
          </a:xfrm>
        </p:grpSpPr>
        <p:sp>
          <p:nvSpPr>
            <p:cNvPr id="227" name=""/>
            <p:cNvSpPr/>
            <p:nvPr/>
          </p:nvSpPr>
          <p:spPr>
            <a:xfrm>
              <a:off x="8332920" y="438552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51240" y="438552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67760" y="438552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84280" y="438552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02240" y="438552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32920" y="402264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51240" y="402264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2240" y="402264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32920" y="365976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51240" y="365976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67760" y="3659760"/>
              <a:ext cx="483480" cy="72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13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84280" y="3659760"/>
              <a:ext cx="483480" cy="72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02240" y="365976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32920" y="329724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1240" y="329724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67760" y="329724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84280" y="329724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02240" y="3297240"/>
              <a:ext cx="483480" cy="3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02240" y="3297240"/>
              <a:ext cx="2414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02240" y="3659760"/>
              <a:ext cx="48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02240" y="4022640"/>
              <a:ext cx="48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02240" y="4385520"/>
              <a:ext cx="48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02240" y="4748400"/>
              <a:ext cx="24145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2240" y="3297240"/>
              <a:ext cx="1440" cy="145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84280" y="3297240"/>
              <a:ext cx="108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67760" y="3297240"/>
              <a:ext cx="108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51240" y="3297240"/>
              <a:ext cx="108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32920" y="3297240"/>
              <a:ext cx="144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16760" y="3297240"/>
              <a:ext cx="1440" cy="145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67760" y="3659760"/>
              <a:ext cx="108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32920" y="3659760"/>
              <a:ext cx="48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84280" y="3659760"/>
              <a:ext cx="14486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51240" y="3659760"/>
              <a:ext cx="108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84280" y="4385520"/>
              <a:ext cx="108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84280" y="3659760"/>
              <a:ext cx="108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67760" y="4385520"/>
              <a:ext cx="108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32920" y="4022640"/>
              <a:ext cx="48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51240" y="4385520"/>
              <a:ext cx="108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32920" y="4385520"/>
              <a:ext cx="144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32920" y="3659760"/>
              <a:ext cx="14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32920" y="4385520"/>
              <a:ext cx="48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84280" y="4385520"/>
              <a:ext cx="14486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51240" y="4022640"/>
              <a:ext cx="4834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98360" y="566640"/>
            <a:ext cx="84423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erations of ce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15960" y="54705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36600" y="54705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95320" y="5470560"/>
            <a:ext cx="1414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76480" y="54705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55840" y="54705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15960" y="5934240"/>
            <a:ext cx="139680" cy="15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36600" y="5780160"/>
            <a:ext cx="139680" cy="15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76480" y="5780160"/>
            <a:ext cx="139680" cy="15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55840" y="5780160"/>
            <a:ext cx="139680" cy="15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6600" y="60879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76480" y="60879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55840" y="60879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15960" y="63975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36600" y="63975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6397560"/>
            <a:ext cx="1414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76480" y="63975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55840" y="6397560"/>
            <a:ext cx="13968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233360" y="6551640"/>
            <a:ext cx="1263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233360" y="5470560"/>
            <a:ext cx="1263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233360" y="6551640"/>
            <a:ext cx="1263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36600" y="54705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95520" y="54705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36600" y="54705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76240" y="54705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36600" y="54705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6600" y="54705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36600" y="54705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1235160" y="5830560"/>
            <a:ext cx="363600" cy="18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235160" y="6012000"/>
            <a:ext cx="363600" cy="1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596960" y="5830560"/>
            <a:ext cx="360360" cy="18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95320" y="5780160"/>
            <a:ext cx="141480" cy="15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96960" y="6012000"/>
            <a:ext cx="360360" cy="1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95320" y="6087960"/>
            <a:ext cx="141480" cy="154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954080" y="5830920"/>
            <a:ext cx="542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954080" y="6191280"/>
            <a:ext cx="542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96960" y="54705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29400" y="6458040"/>
            <a:ext cx="4860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80400" y="54705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59640" y="54705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99360" y="54705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0120" y="54705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39080" y="54705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59640" y="5780160"/>
            <a:ext cx="160200" cy="15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0120" y="5780160"/>
            <a:ext cx="160200" cy="15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939080" y="5780160"/>
            <a:ext cx="160200" cy="15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59640" y="60879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0120" y="60879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39080" y="60879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80400" y="63975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59640" y="63975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99360" y="63975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63975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39080" y="6397560"/>
            <a:ext cx="1602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657480" y="6551640"/>
            <a:ext cx="1443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657480" y="5470560"/>
            <a:ext cx="1443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657480" y="6551640"/>
            <a:ext cx="1443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59640" y="54705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99280" y="54705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59640" y="54705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80360" y="54705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59640" y="54705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88160" y="54705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59640" y="54705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6657480" y="5830560"/>
            <a:ext cx="414360" cy="18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657480" y="6012000"/>
            <a:ext cx="414360" cy="1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70760" y="54705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459200" y="5900760"/>
            <a:ext cx="282600" cy="34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78560" y="5780160"/>
            <a:ext cx="363600" cy="30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018200" y="6012000"/>
            <a:ext cx="363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20000" y="5934240"/>
            <a:ext cx="160200" cy="15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80360" y="5934240"/>
            <a:ext cx="160200" cy="15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953720" y="5111640"/>
            <a:ext cx="723960" cy="90036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96960" y="5111640"/>
            <a:ext cx="179280" cy="72072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9280" y="5111640"/>
            <a:ext cx="182520" cy="72072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60360" y="4751280"/>
            <a:ext cx="7380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c           Vd                                                     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360000" y="764712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158920"/>
            <a:ext cx="10080720" cy="62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nify-cell provides the unification of two cells c an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put                              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                       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                                        E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           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(V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L,λ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A,α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     G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(V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L,λ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,α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19640" y="4211640"/>
            <a:ext cx="1620720" cy="900000"/>
          </a:xfrm>
          <a:prstGeom prst="rightArrow">
            <a:avLst>
              <a:gd name="adj1" fmla="val 50000"/>
              <a:gd name="adj2" fmla="val 4502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76200" y="2174760"/>
            <a:ext cx="8517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Landform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</a:t>
            </a:r>
            <a:r>
              <a:rPr b="0" lang="en-GB" sz="7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al Grap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44360" y="808560"/>
            <a:ext cx="9756720" cy="63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3.1 Landform Octal Grap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 = (T, P, g) : a  rectangular dissection </a:t>
            </a:r>
            <a:br>
              <a:rPr sz="2800"/>
            </a:br>
            <a:r>
              <a:rPr b="1" lang="en-GB" sz="2800" spc="-1" strike="noStrike" u="sng">
                <a:solidFill>
                  <a:srgbClr val="ffff66"/>
                </a:solidFill>
                <a:uFillTx/>
                <a:latin typeface="Arial"/>
                <a:ea typeface="ＭＳ Ｐゴシック"/>
              </a:rPr>
              <a:t>A Landform O</a:t>
            </a:r>
            <a:r>
              <a:rPr b="1" lang="en-GB" sz="2800" spc="-1" strike="noStrike" u="sng">
                <a:solidFill>
                  <a:srgbClr val="ffff66"/>
                </a:solidFill>
                <a:uFillTx/>
                <a:latin typeface="Times New Roman"/>
                <a:ea typeface="ＭＳ Ｐゴシック"/>
              </a:rPr>
              <a:t>ctal Graph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G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  <a:ea typeface="ＭＳ Ｐゴシック"/>
              </a:rPr>
              <a:t>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=(V, E, L, λ, A, α)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or D is defined similarly to an octal degree rectangular dissection graph,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A = { nw, sw, ew, ww, altitude, geological information, ..}</a:t>
            </a:r>
            <a:br>
              <a:rPr sz="28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α : V → A</a:t>
            </a: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D landform map                D                                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03280" y="4140360"/>
          <a:ext cx="220644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4140360"/>
                    <a:ext cx="220644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1373040" y="6091200"/>
            <a:ext cx="401760" cy="390600"/>
          </a:xfrm>
          <a:prstGeom prst="ellipse">
            <a:avLst/>
          </a:prstGeom>
          <a:noFill/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3040" y="5310360"/>
            <a:ext cx="401760" cy="390240"/>
          </a:xfrm>
          <a:prstGeom prst="ellipse">
            <a:avLst/>
          </a:prstGeom>
          <a:noFill/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43320" y="6091200"/>
            <a:ext cx="401400" cy="390600"/>
          </a:xfrm>
          <a:prstGeom prst="ellipse">
            <a:avLst/>
          </a:prstGeom>
          <a:noFill/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74760" y="5440320"/>
            <a:ext cx="401760" cy="390600"/>
          </a:xfrm>
          <a:prstGeom prst="ellipse">
            <a:avLst/>
          </a:prstGeom>
          <a:noFill/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564000" y="4319640"/>
          <a:ext cx="2068560" cy="19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319640"/>
                    <a:ext cx="206856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6418440" y="3800520"/>
          <a:ext cx="2725560" cy="26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8440" y="3800520"/>
                    <a:ext cx="272556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73120" y="486720"/>
            <a:ext cx="86090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3.2 Example of Landform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                            Oct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040" y="4324320"/>
            <a:ext cx="27050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3D Landform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94640" y="2263680"/>
            <a:ext cx="26384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he Correspo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Rectangular Dissection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311640" y="4754520"/>
          <a:ext cx="358272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4754520"/>
                    <a:ext cx="35827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7128000" y="4778280"/>
            <a:ext cx="29527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he Correspo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nd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c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ra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39640" y="1800360"/>
          <a:ext cx="2922840" cy="24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800360"/>
                    <a:ext cx="292284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4140360" y="1916280"/>
          <a:ext cx="2379600" cy="22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1916280"/>
                    <a:ext cx="23796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00360" y="2987640"/>
            <a:ext cx="85168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 Introduc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03280" y="1531800"/>
            <a:ext cx="957744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fication of two adjacen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tangular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ctal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ctang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se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Graph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he number of edge form one vertex is at most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ing Unify-Cell,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ndform octal graph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presentation may reduce the number of polygons in focused area in shorter computation time than rectangular duals’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680" y="-36360"/>
            <a:ext cx="860868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3 Characteristics of 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Landform Octal Graph</a:t>
            </a:r>
            <a:r>
              <a:rPr b="1" lang="ja-JP" sz="4400" spc="-1" strike="noStrike">
                <a:solidFill>
                  <a:srgbClr val="660099"/>
                </a:solidFill>
                <a:latin typeface="Arial"/>
                <a:ea typeface="ＭＳ Ｐゴシック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19280" y="2124000"/>
            <a:ext cx="8157960" cy="180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6360" y="3492360"/>
            <a:ext cx="8157960" cy="180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48000" y="2124000"/>
            <a:ext cx="0" cy="338472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0040" y="6270480"/>
            <a:ext cx="34606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30680" y="4859280"/>
            <a:ext cx="22100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2560" y="5253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11760" y="6300720"/>
            <a:ext cx="22100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88360" y="2556000"/>
            <a:ext cx="259236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: number of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1640" y="5796000"/>
            <a:ext cx="648000" cy="576360"/>
          </a:xfrm>
          <a:prstGeom prst="rightArrow">
            <a:avLst>
              <a:gd name="adj1" fmla="val 50000"/>
              <a:gd name="adj2" fmla="val 28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47600" y="4284720"/>
            <a:ext cx="136476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O(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8320" y="2484360"/>
            <a:ext cx="139824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(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76200" y="2174760"/>
            <a:ext cx="851724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</a:t>
            </a: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mplementation o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dform Octal 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55640" y="2351160"/>
            <a:ext cx="87566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1640" y="5292720"/>
            <a:ext cx="24163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45440" y="4716360"/>
            <a:ext cx="47998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  header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  list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 content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  Tabular layer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93160" y="966960"/>
            <a:ext cx="80370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.1  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H7-Code</a:t>
            </a:r>
            <a:r>
              <a:rPr b="1" lang="en-GB" sz="4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: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st structur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at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dform Oct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7-code is based on heterogeneo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tangular code called H3-Co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7-Code Consists of four blo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24360" y="4788000"/>
            <a:ext cx="502920" cy="1873080"/>
          </a:xfrm>
          <a:custGeom>
            <a:avLst/>
            <a:gdLst>
              <a:gd name="textAreaLeft" fmla="*/ 321480 w 502920"/>
              <a:gd name="textAreaRight" fmla="*/ 503280 w 50292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77880" y="522360"/>
            <a:ext cx="86090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2 Contents of list block</a:t>
            </a:r>
            <a:r>
              <a:rPr b="1" lang="ja-JP" sz="4400" spc="-1" strike="noStrike">
                <a:solidFill>
                  <a:srgbClr val="660099"/>
                </a:solidFill>
                <a:latin typeface="Arial"/>
                <a:ea typeface="ＭＳ Ｐゴシック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784520" y="4340160"/>
            <a:ext cx="2536560" cy="19605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117560" y="4873680"/>
            <a:ext cx="628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ltitu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5832360" y="2700360"/>
          <a:ext cx="3316320" cy="28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32360" y="2700360"/>
                    <a:ext cx="331632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1653840" y="3780000"/>
            <a:ext cx="2983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ndform Oct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79640" y="6480000"/>
            <a:ext cx="4511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rresponding  list structu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29120" y="5796000"/>
            <a:ext cx="3026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elds of each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619280" y="1836720"/>
          <a:ext cx="2995560" cy="17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1836720"/>
                    <a:ext cx="29955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976320" y="790560"/>
            <a:ext cx="860904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.3  Example of H7-Code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08360" y="1673280"/>
            <a:ext cx="6048360" cy="58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#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This file was transformed by map2h7-50m Version 1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#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Date: 2005.08.31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Time: 17: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#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MESH SIZE: 5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#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MAP NAME:Mt. FU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#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MESH CODE: 5338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#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LINE:      001 - 200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ORG: 001 - 2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#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COLUMN:    001 - 200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ORG: 001 - 2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14 200 200 0 0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 0 0 0 2 0 0 203 0 203 0 1 -1 0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 0 3 1 3 1 0 204 0 204 0 1 0 0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 0 4 2 4 2 0 205 0 205 0 1 1 2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 0 5 3 5 3 0 206 0 206 0 1 2 3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5 0 6 4 6 4 0 207 0 207 0 1 3 4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6 0 7 5 7 5 0 208 0 208 0 1 4 5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7 0 8 6 8 6 0 209 0 209 0 1 5 6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8 0 9 7 9 7 0 210 0 210 0 1 6 7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9 0 10 8 10 8 0 211 0 211 0 1 7 8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0 0 11 9 11 9 0 212 0 212 0 1 8 9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1 0 12 10 12 10 0 213 0 213 0 1 9 10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2 0 13 11 13 11 0 214 0 214 0 1 10 11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3 0 14 12 14 12 0 215 0 215 0 1 11 12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4 0 15 13 15 13 0 216 0 216 0 1 12 13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5 0 16 14 16 14 0 217 0 217 0 1 13 14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6 0 17 15 17 15 0 218 0 218 0 1 14 15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7 0 18 16 18 16 0 219 0 219 0 1 15 16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8 0 19 17 19 17 0 220 0 220 0 1 16 17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9 0 20 18 20 18 0 221 0 221 0 1 17 18 0 0 0 0 0 0 0 0 0 0 -1 0 0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0 0 21 19 21 19 0 222 0 222 0 1 18 19 0 0 0 0 0 0 0 0 0 0 -1 0 0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.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 to represent a small part of Mt. Fuji land form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08000" y="5364000"/>
            <a:ext cx="28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t. FU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180360" y="7215120"/>
            <a:ext cx="90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60360" y="2987640"/>
          <a:ext cx="3313080" cy="19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2987640"/>
                    <a:ext cx="331308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3887640" y="3851280"/>
            <a:ext cx="505080" cy="433440"/>
          </a:xfrm>
          <a:prstGeom prst="leftArrow">
            <a:avLst>
              <a:gd name="adj1" fmla="val 50000"/>
              <a:gd name="adj2" fmla="val 291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744480" y="328680"/>
            <a:ext cx="860904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4  Implementation: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Structure of  3D Landform                           Map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8000" y="2771640"/>
            <a:ext cx="1662120" cy="1229040"/>
          </a:xfrm>
          <a:prstGeom prst="can">
            <a:avLst>
              <a:gd name="adj" fmla="val 25000"/>
            </a:avLst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ltitud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68360" y="2844720"/>
            <a:ext cx="1841760" cy="1081080"/>
          </a:xfrm>
          <a:prstGeom prst="roundRect">
            <a:avLst>
              <a:gd name="adj" fmla="val 171"/>
            </a:avLst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2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40360" y="3852720"/>
            <a:ext cx="1522080" cy="1209960"/>
          </a:xfrm>
          <a:prstGeom prst="can">
            <a:avLst>
              <a:gd name="adj" fmla="val 25000"/>
            </a:avLst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24760" y="2413080"/>
            <a:ext cx="1662120" cy="922320"/>
          </a:xfrm>
          <a:prstGeom prst="roundRect">
            <a:avLst>
              <a:gd name="adj" fmla="val 171"/>
            </a:avLst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ans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00720" y="1260360"/>
            <a:ext cx="1620720" cy="1800"/>
          </a:xfrm>
          <a:prstGeom prst="leftRightArrow">
            <a:avLst>
              <a:gd name="adj1" fmla="val 50000"/>
              <a:gd name="adj2" fmla="val 1792463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5" idx="4"/>
            <a:endCxn id="416" idx="1"/>
          </p:cNvCxnSpPr>
          <p:nvPr/>
        </p:nvCxnSpPr>
        <p:spPr>
          <a:xfrm>
            <a:off x="1787400" y="3385800"/>
            <a:ext cx="464400" cy="1080"/>
          </a:xfrm>
          <a:prstGeom prst="bentConnector2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7" idx="1"/>
          </p:cNvCxnSpPr>
          <p:nvPr/>
        </p:nvCxnSpPr>
        <p:spPr>
          <a:xfrm>
            <a:off x="4127400" y="3386160"/>
            <a:ext cx="775440" cy="450000"/>
          </a:xfrm>
          <a:prstGeom prst="bentConnector2">
            <a:avLst/>
          </a:prstGeom>
          <a:ln w="3600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422" name=""/>
          <p:cNvCxnSpPr>
            <a:stCxn id="418" idx="1"/>
            <a:endCxn id="417" idx="4"/>
          </p:cNvCxnSpPr>
          <p:nvPr/>
        </p:nvCxnSpPr>
        <p:spPr>
          <a:xfrm flipV="1" rot="10800000">
            <a:off x="5679360" y="2873880"/>
            <a:ext cx="527760" cy="1583640"/>
          </a:xfrm>
          <a:prstGeom prst="bentConnector3">
            <a:avLst>
              <a:gd name="adj1" fmla="val 49965"/>
            </a:avLst>
          </a:prstGeom>
          <a:ln w="360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593640" y="5637240"/>
            <a:ext cx="2106720" cy="1239840"/>
          </a:xfrm>
          <a:prstGeom prst="roundRect">
            <a:avLst>
              <a:gd name="adj" fmla="val 171"/>
            </a:avLst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VRML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7" idx="2"/>
            <a:endCxn id="423" idx="0"/>
          </p:cNvCxnSpPr>
          <p:nvPr/>
        </p:nvCxnSpPr>
        <p:spPr>
          <a:xfrm flipV="1" rot="10800000">
            <a:off x="1647000" y="4456800"/>
            <a:ext cx="2475720" cy="1162440"/>
          </a:xfrm>
          <a:prstGeom prst="bentConnector2">
            <a:avLst/>
          </a:prstGeom>
          <a:ln w="3600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565440" y="5508720"/>
            <a:ext cx="1800360" cy="1498680"/>
          </a:xfrm>
          <a:prstGeom prst="can">
            <a:avLst>
              <a:gd name="adj" fmla="val 34319"/>
            </a:avLst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VR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23" idx="3"/>
            <a:endCxn id="425" idx="2"/>
          </p:cNvCxnSpPr>
          <p:nvPr/>
        </p:nvCxnSpPr>
        <p:spPr>
          <a:xfrm>
            <a:off x="2717280" y="6257520"/>
            <a:ext cx="831240" cy="1080"/>
          </a:xfrm>
          <a:prstGeom prst="bentConnector2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5" idx="4"/>
            <a:endCxn id="428" idx="0"/>
          </p:cNvCxnSpPr>
          <p:nvPr/>
        </p:nvCxnSpPr>
        <p:spPr>
          <a:xfrm flipV="1">
            <a:off x="5383080" y="6246000"/>
            <a:ext cx="991440" cy="11880"/>
          </a:xfrm>
          <a:prstGeom prst="bentConnector3">
            <a:avLst>
              <a:gd name="adj1" fmla="val 49001"/>
            </a:avLst>
          </a:prstGeom>
          <a:ln w="36000">
            <a:solidFill>
              <a:srgbClr val="ffffff"/>
            </a:solidFill>
            <a:round/>
            <a:tailEnd len="med" type="triangle" w="med"/>
          </a:ln>
        </p:spPr>
      </p:cxnSp>
      <p:graphicFrame>
        <p:nvGraphicFramePr>
          <p:cNvPr id="429" name=""/>
          <p:cNvGraphicFramePr/>
          <p:nvPr/>
        </p:nvGraphicFramePr>
        <p:xfrm>
          <a:off x="8283600" y="1619280"/>
          <a:ext cx="1257120" cy="12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3600" y="1619280"/>
                    <a:ext cx="125712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8280360" y="3419640"/>
          <a:ext cx="1260360" cy="12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80360" y="3419640"/>
                    <a:ext cx="126036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8928000" y="2916360"/>
            <a:ext cx="18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180360" y="6748560"/>
            <a:ext cx="90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73800" y="5221440"/>
            <a:ext cx="2303640" cy="20509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VR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Ren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4760" y="7120080"/>
            <a:ext cx="4495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 are converted into vr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4200" y="2340000"/>
            <a:ext cx="558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ltitude data are converted into H7-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02560" y="4716360"/>
            <a:ext cx="4214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We reduce the number of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9640" y="3111120"/>
            <a:ext cx="9072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. Comparison with Known Dat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539640" y="873000"/>
            <a:ext cx="9072720" cy="62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0200" indent="-32400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Arial"/>
                <a:ea typeface="Arial Unicode MS"/>
              </a:rPr>
              <a:t>Input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1km resolution altitude data of  16km x 16km specified meshed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Arial"/>
                <a:ea typeface="Arial Unicode MS"/>
              </a:rPr>
              <a:t>Output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rough resolution altitude data of sam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Arial"/>
                <a:ea typeface="Arial Unicode MS"/>
              </a:rPr>
              <a:t>Condi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Adjacent cells c and d with their horizontal (vertical) walls in common are possibly unified if the difference of altitude of c and d is less than specified difference (threshold value) of al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9640" y="360360"/>
            <a:ext cx="9072720" cy="69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0200" indent="-32400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put area : NAGANO area in Japan, 16 x 16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reshold Value : 10 m                   </a:t>
            </a:r>
            <a:r>
              <a:rPr b="1" lang="en-GB" sz="28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GB" sz="28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ut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ad tree case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5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dform octal graph case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7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ser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al graphs possibly decrease cells more than quad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584360" y="2484360"/>
          <a:ext cx="3060720" cy="27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2484360"/>
                    <a:ext cx="306072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6480000" y="2158920"/>
          <a:ext cx="3060720" cy="216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80000" y="2158920"/>
                    <a:ext cx="30607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6480000" y="3924360"/>
          <a:ext cx="3141720" cy="2340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80000" y="3924360"/>
                    <a:ext cx="314172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4319640" y="4140360"/>
            <a:ext cx="1260360" cy="360360"/>
          </a:xfrm>
          <a:prstGeom prst="line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319640" y="3238560"/>
            <a:ext cx="1260360" cy="363600"/>
          </a:xfrm>
          <a:prstGeom prst="line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820000" y="2879640"/>
            <a:ext cx="1440000" cy="25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ad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d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7640" y="5148360"/>
            <a:ext cx="287640" cy="287280"/>
          </a:xfrm>
          <a:prstGeom prst="rightArrow">
            <a:avLst>
              <a:gd name="adj1" fmla="val 50000"/>
              <a:gd name="adj2" fmla="val 250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45080" y="5651640"/>
            <a:ext cx="28728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360"/>
            <a:ext cx="8609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6. conclusion</a:t>
            </a:r>
            <a:r>
              <a:rPr b="1" lang="ja-JP" sz="4800" spc="-1" strike="noStrike">
                <a:solidFill>
                  <a:srgbClr val="660099"/>
                </a:solidFill>
                <a:latin typeface="Arial"/>
                <a:ea typeface="ＭＳ Ｐゴシック"/>
              </a:rPr>
              <a:t>　</a:t>
            </a:r>
            <a:r>
              <a:rPr b="1" lang="ja-JP" sz="4400" spc="-1" strike="noStrike">
                <a:solidFill>
                  <a:srgbClr val="660099"/>
                </a:solidFill>
                <a:latin typeface="Arial"/>
                <a:ea typeface="ＭＳ Ｐゴシック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4320" y="900000"/>
            <a:ext cx="9896400" cy="63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1. We proposed octal graph representation for multi-resolution 3D landform map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・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Landform octal graph: octal gra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                   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+ altitude +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We implemented a landform octal graph with    H7-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3. We proposed 3D Landform Map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4. Advantage of landform octal graph over quadtr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Futur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1. Implementation of  3D  Landform Maps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2. Extension to hexadecimal  graph representation for stratum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6444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1 TAR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9360" y="1379520"/>
            <a:ext cx="9350280" cy="65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3D Landform Maps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D computer graphic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d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employ  VRML for 3D landform maps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                                                                             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ltitud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                                                                                                     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　　　　　　　　　　　　　　　　　　　　　　　　　　　　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08360" y="2411280"/>
          <a:ext cx="309564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2411280"/>
                    <a:ext cx="30956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9360000" y="702000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image3.jpg"/>
          <p:cNvPicPr/>
          <p:nvPr/>
        </p:nvPicPr>
        <p:blipFill>
          <a:blip r:embed="rId3"/>
          <a:stretch/>
        </p:blipFill>
        <p:spPr>
          <a:xfrm>
            <a:off x="4608360" y="4788000"/>
            <a:ext cx="3600720" cy="254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7704000" y="5148360"/>
            <a:ext cx="720720" cy="53964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3280" y="50752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focus on the grid appearing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232000" y="2627280"/>
            <a:ext cx="5732640" cy="25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Thank you!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276120" y="1979640"/>
          <a:ext cx="5842080" cy="52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979640"/>
                    <a:ext cx="58420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119640" y="3959280"/>
          <a:ext cx="5123160" cy="4681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9640" y="3959280"/>
                    <a:ext cx="512316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179280" y="360360"/>
            <a:ext cx="5761080" cy="81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Quadtree Vs Landform Octa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nify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if complementary 0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～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0, than Unify                                                          ce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agano  Landform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umber of cell : 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00720" y="4680000"/>
            <a:ext cx="1079280" cy="720720"/>
          </a:xfrm>
          <a:prstGeom prst="line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500720" y="2877840"/>
            <a:ext cx="1079280" cy="723960"/>
          </a:xfrm>
          <a:prstGeom prst="line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319640" y="2340000"/>
            <a:ext cx="14396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Quad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nd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119640" y="358920"/>
          <a:ext cx="5220000" cy="4681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9640" y="358920"/>
                    <a:ext cx="5220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953928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5857920" y="1260360"/>
          <a:ext cx="51228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920" y="1260360"/>
                    <a:ext cx="5122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1079640" y="360360"/>
            <a:ext cx="90010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Quadtree               Landform Octal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9640" y="5040360"/>
            <a:ext cx="900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umber of cell : 55                                             Number of cell :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97560" y="5900760"/>
            <a:ext cx="27828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umber of cell : 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580000" y="4857840"/>
            <a:ext cx="720720" cy="363600"/>
          </a:xfrm>
          <a:prstGeom prst="line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3057120" y="4906800"/>
            <a:ext cx="723960" cy="363600"/>
          </a:xfrm>
          <a:prstGeom prst="line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056120" y="5040360"/>
          <a:ext cx="2065320" cy="1800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6120" y="5040360"/>
                    <a:ext cx="206532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539640" y="1258920"/>
          <a:ext cx="5219640" cy="4681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1258920"/>
                    <a:ext cx="52196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360360" y="6480000"/>
            <a:ext cx="9180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show advantages of landform octal graph by the number of ce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60360" y="1979640"/>
            <a:ext cx="1979640" cy="1440000"/>
          </a:xfrm>
          <a:prstGeom prst="can">
            <a:avLst>
              <a:gd name="adj" fmla="val 25000"/>
            </a:avLst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ltitud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60720" y="2160720"/>
            <a:ext cx="1979640" cy="1081080"/>
          </a:xfrm>
          <a:prstGeom prst="roundRect">
            <a:avLst>
              <a:gd name="adj" fmla="val 144"/>
            </a:avLst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ans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1" idx="3"/>
            <a:endCxn id="482" idx="1"/>
          </p:cNvCxnSpPr>
          <p:nvPr/>
        </p:nvCxnSpPr>
        <p:spPr>
          <a:xfrm>
            <a:off x="2340000" y="2700360"/>
            <a:ext cx="721440" cy="2160"/>
          </a:xfrm>
          <a:prstGeom prst="bentConnector3">
            <a:avLst>
              <a:gd name="adj1" fmla="val 49975"/>
            </a:avLst>
          </a:prstGeom>
          <a:ln w="3600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2160720" y="5219640"/>
            <a:ext cx="1979640" cy="1081080"/>
          </a:xfrm>
          <a:prstGeom prst="roundRect">
            <a:avLst>
              <a:gd name="adj" fmla="val 144"/>
            </a:avLst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mpo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6119640" y="1800360"/>
          <a:ext cx="2160720" cy="18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800360"/>
                    <a:ext cx="216072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6114960" y="4680000"/>
          <a:ext cx="2165400" cy="18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4680000"/>
                    <a:ext cx="216540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5040360" y="2700360"/>
            <a:ext cx="900000" cy="1440"/>
          </a:xfrm>
          <a:prstGeom prst="line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959280" y="3419640"/>
            <a:ext cx="1982880" cy="1439640"/>
          </a:xfrm>
          <a:prstGeom prst="line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80000" y="5759280"/>
            <a:ext cx="900000" cy="1800"/>
          </a:xfrm>
          <a:prstGeom prst="line">
            <a:avLst/>
          </a:prstGeom>
          <a:ln w="36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59640" y="3780000"/>
            <a:ext cx="234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80000" y="6676920"/>
            <a:ext cx="234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7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1680" y="312120"/>
            <a:ext cx="86086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5  Example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D Landform Viewing with Sloution chang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              based on H7-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581040" y="3038400"/>
            <a:ext cx="9299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ly Octal Graph to 3D Landform Maps,we make the system of render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transformation of 3D Landform Maps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composed heterogeneous rectangular diss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0280" y="597960"/>
            <a:ext cx="86090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4 Our 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744480" y="951840"/>
            <a:ext cx="86090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3  </a:t>
            </a:r>
            <a:r>
              <a:rPr b="1" lang="ja-JP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ヘッダー部、リスト部</a:t>
            </a:r>
            <a:r>
              <a:rPr b="1" lang="ja-JP" sz="4400" spc="-1" strike="noStrike">
                <a:solidFill>
                  <a:srgbClr val="660099"/>
                </a:solidFill>
                <a:latin typeface="Arial"/>
                <a:ea typeface="ＭＳ Ｐゴシック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11160" y="1863720"/>
            <a:ext cx="32799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1) </a:t>
            </a:r>
            <a:r>
              <a:rPr b="1" lang="ja-JP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ヘッダー部 </a:t>
            </a:r>
            <a:r>
              <a:rPr b="1" lang="en-GB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header bl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744560" y="2874960"/>
            <a:ext cx="7364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表の基本情報，３つのフィールドからな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（予備フィールドを除く）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Information of tabuer .constracted 3 fi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79560" y="4078440"/>
            <a:ext cx="5032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2) </a:t>
            </a:r>
            <a:r>
              <a:rPr b="1" lang="ja-JP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リスト部 </a:t>
            </a:r>
            <a:r>
              <a:rPr b="1" lang="en-GB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list bl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63720" y="4865760"/>
            <a:ext cx="736452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表のセルの情報を表す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セルの数と等しい数のレコードからなる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１レコード当たり</a:t>
            </a: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32</a:t>
            </a: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フィールド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各フィールドはセル同士のリンク情報や地理情報（標高など）を持つ</a:t>
            </a:r>
            <a:r>
              <a:rPr b="1" lang="ja-JP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Information for cell of tab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32 field for 1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744480" y="951840"/>
            <a:ext cx="900108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4  </a:t>
            </a:r>
            <a:r>
              <a:rPr b="1" lang="ja-JP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コンテンツ部、表レイヤー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52560" y="2265480"/>
            <a:ext cx="7431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3) </a:t>
            </a:r>
            <a:r>
              <a:rPr b="1" lang="ja-JP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コンテンツ部 </a:t>
            </a:r>
            <a:r>
              <a:rPr b="1" lang="en-GB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content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70000" y="3003480"/>
            <a:ext cx="76374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各ノードに付随する，地名，画像（地図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などの情報を格納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1</a:t>
            </a: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コンテンツ当たり</a:t>
            </a: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8</a:t>
            </a: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つのフィールドからな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（予備フィールドを除く）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Constract name of ,pi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60640" y="4826160"/>
            <a:ext cx="8339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4) </a:t>
            </a:r>
            <a:r>
              <a:rPr b="1" lang="ja-JP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表レイヤー部 </a:t>
            </a:r>
            <a:r>
              <a:rPr b="1" lang="en-GB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tabular reyer bl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05320" y="5450040"/>
            <a:ext cx="829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複数の表を管理するための情報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Information for control tabu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1520" y="6984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D Landform M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79640" y="1619280"/>
            <a:ext cx="864072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utation time for rendering and transforming 3D Landform Maps  depends on the amoun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 polyg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need to decrease the amount of polygons with keeping its appear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e may need fine (e.g., 50m) meshes in certain focused area, and somewha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 rough (e.g., 1km) mesh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n other area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2760" y="3494160"/>
            <a:ext cx="9418320" cy="1365120"/>
          </a:xfrm>
          <a:prstGeom prst="roundRect">
            <a:avLst>
              <a:gd name="adj" fmla="val 116"/>
            </a:avLst>
          </a:prstGeom>
          <a:noFill/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216160" y="911160"/>
            <a:ext cx="41335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.4  </a:t>
            </a:r>
            <a:r>
              <a:rPr b="1" lang="ja-JP" sz="4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既存の手法との比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17920" y="2637000"/>
            <a:ext cx="1800" cy="37130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66600" y="2816280"/>
            <a:ext cx="17244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QUAD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4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分木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83120" y="2774880"/>
            <a:ext cx="2959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Rectangular 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双対グラフ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784080" y="4105440"/>
          <a:ext cx="135576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4105440"/>
                    <a:ext cx="13557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2376360" y="4083120"/>
          <a:ext cx="1212840" cy="11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6360" y="4083120"/>
                    <a:ext cx="121284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 flipH="1" flipV="1">
            <a:off x="1585800" y="4884480"/>
            <a:ext cx="279360" cy="87300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4880" y="5797440"/>
            <a:ext cx="3492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こ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4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分木のままでは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この部分の合併は対象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113440" y="3803760"/>
          <a:ext cx="1514520" cy="191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3440" y="3803760"/>
                    <a:ext cx="151452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7271280" y="4599000"/>
            <a:ext cx="2148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合併の計算時間は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0520" y="5176800"/>
            <a:ext cx="1905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ｎはセルの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58880" y="1055520"/>
            <a:ext cx="87948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D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地形図表示ソフトの一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85920" y="2008080"/>
            <a:ext cx="879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Google Ear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981000" y="2913120"/>
          <a:ext cx="847908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2913120"/>
                    <a:ext cx="847908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519120" y="700200"/>
            <a:ext cx="82789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.1  </a:t>
            </a: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Quad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21560" y="174600"/>
            <a:ext cx="3071880" cy="10857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16360" y="3479760"/>
          <a:ext cx="491184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479760"/>
                    <a:ext cx="491184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504720" y="3936960"/>
          <a:ext cx="3795840" cy="287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720" y="3936960"/>
                    <a:ext cx="379584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925560" y="1663560"/>
            <a:ext cx="8599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812880" y="3726000"/>
          <a:ext cx="4735440" cy="34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3726000"/>
                    <a:ext cx="4735440" cy="34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>
            <a:off x="4297320" y="3146400"/>
            <a:ext cx="1280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矩形分割の記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22800" y="4700520"/>
            <a:ext cx="1646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風車の記述は不可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26360" y="201600"/>
            <a:ext cx="3071520" cy="10857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120" y="700200"/>
            <a:ext cx="82789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.1  Character of </a:t>
            </a: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Quad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4714920" y="3479760"/>
          <a:ext cx="491184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3479760"/>
                    <a:ext cx="491184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504720" y="3481560"/>
          <a:ext cx="3795840" cy="28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720" y="3481560"/>
                    <a:ext cx="379584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1320" y="2173320"/>
            <a:ext cx="59389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adTree ( Bentley, 1975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7840" y="1373040"/>
            <a:ext cx="5715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Rectangular Dis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11360" y="2717640"/>
            <a:ext cx="3348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25760" y="2828880"/>
            <a:ext cx="7732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fies two adjacent inner cells in a rectangular dis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26360" y="201600"/>
            <a:ext cx="3071520" cy="10857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882720" y="3873600"/>
          <a:ext cx="37954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2720" y="3873600"/>
                    <a:ext cx="37954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392800" y="3860640"/>
          <a:ext cx="3795480" cy="29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2800" y="3860640"/>
                    <a:ext cx="37954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41320" y="2173320"/>
            <a:ext cx="90630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tangular Dual ( kozminski &amp; kinne.1985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7840" y="1373040"/>
            <a:ext cx="5715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Rectangular Dis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11360" y="2717640"/>
            <a:ext cx="3348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13240" y="3333600"/>
            <a:ext cx="252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特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26360" y="201600"/>
            <a:ext cx="3071520" cy="10857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092240" y="3935520"/>
          <a:ext cx="4529160" cy="27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935520"/>
                    <a:ext cx="4529160" cy="27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41320" y="2173320"/>
            <a:ext cx="90630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tangular Dual ( kozminski &amp; kinne.1985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7840" y="1373040"/>
            <a:ext cx="5715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Rectangular Dis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11360" y="2717640"/>
            <a:ext cx="3348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27080" y="5065560"/>
            <a:ext cx="109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記述全部可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297320" y="3146400"/>
            <a:ext cx="1280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矩形分割の記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26360" y="201600"/>
            <a:ext cx="3071520" cy="10857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896760" y="3355920"/>
          <a:ext cx="379584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3355920"/>
                    <a:ext cx="379584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5407200" y="3341520"/>
          <a:ext cx="3795480" cy="29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7200" y="3341520"/>
                    <a:ext cx="37954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41320" y="2173320"/>
            <a:ext cx="90630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tangular Dual ( kozminski &amp; kinne.1985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7840" y="1373040"/>
            <a:ext cx="5715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Rectangular Dis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11360" y="2717640"/>
            <a:ext cx="3348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25760" y="2828880"/>
            <a:ext cx="7732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fies two adjacent inner cells in a rectangular dis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62480" y="6567480"/>
            <a:ext cx="1599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全て可能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計算時間は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70360" y="6951600"/>
            <a:ext cx="1905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ｎはセルの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26360" y="201600"/>
            <a:ext cx="3071520" cy="10857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41320" y="2173320"/>
            <a:ext cx="97776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ctal Degree Rectangular Dissection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 Motohashi el.2003 ), </a:t>
            </a:r>
            <a:r>
              <a:rPr b="1" lang="ja-JP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今回利用 </a:t>
            </a:r>
            <a:r>
              <a:rPr b="1" lang="ja-JP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7840" y="1373040"/>
            <a:ext cx="5715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Rectangular Dis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11360" y="2717640"/>
            <a:ext cx="3348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915840" y="3994200"/>
          <a:ext cx="37148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3994200"/>
                    <a:ext cx="3714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294160" y="3902040"/>
          <a:ext cx="3959280" cy="29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4160" y="3902040"/>
                    <a:ext cx="395928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4413240" y="3333600"/>
            <a:ext cx="252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特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426360" y="201600"/>
            <a:ext cx="3071520" cy="10857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1320" y="2173320"/>
            <a:ext cx="97776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ctal Degree Rectangular Dissection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 Motohashi el.2003 ), </a:t>
            </a:r>
            <a:r>
              <a:rPr b="1" lang="ja-JP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今回利用 </a:t>
            </a:r>
            <a:r>
              <a:rPr b="1" lang="ja-JP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7840" y="1373040"/>
            <a:ext cx="5715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Rectangular Dis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11360" y="2717640"/>
            <a:ext cx="3348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1092240" y="3935520"/>
          <a:ext cx="4529160" cy="27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935520"/>
                    <a:ext cx="4529160" cy="27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1611360" y="2717640"/>
            <a:ext cx="3348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27080" y="5065560"/>
            <a:ext cx="109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記述全部可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24400" y="3244680"/>
            <a:ext cx="1280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矩形分割の記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426360" y="201600"/>
            <a:ext cx="3071520" cy="10857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7560" y="603360"/>
            <a:ext cx="91728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D landform maps 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tangular Dis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93560" y="2700360"/>
          <a:ext cx="346716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2700360"/>
                    <a:ext cx="346716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040360" y="2700360"/>
          <a:ext cx="3779640" cy="27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0360" y="2700360"/>
                    <a:ext cx="377964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03280" y="5796000"/>
            <a:ext cx="3168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3D landform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4140360"/>
            <a:ext cx="900000" cy="720720"/>
          </a:xfrm>
          <a:prstGeom prst="ellipse">
            <a:avLst/>
          </a:prstGeom>
          <a:noFill/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940360" y="4857480"/>
            <a:ext cx="1260720" cy="72396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59280" y="3060720"/>
            <a:ext cx="540000" cy="720720"/>
          </a:xfrm>
          <a:prstGeom prst="ellipse">
            <a:avLst/>
          </a:prstGeom>
          <a:noFill/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9280" y="2519280"/>
            <a:ext cx="1619280" cy="54000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9640" y="1979640"/>
            <a:ext cx="88200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his point  corresponds to fine mesh of recta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                                                                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section.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                          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his point corresponds to 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                                 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esh of rectangular diss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2700360"/>
            <a:ext cx="900000" cy="900000"/>
          </a:xfrm>
          <a:prstGeom prst="ellipse">
            <a:avLst/>
          </a:prstGeom>
          <a:noFill/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979280" y="2519280"/>
            <a:ext cx="1082520" cy="36036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5040360"/>
            <a:ext cx="720720" cy="720720"/>
          </a:xfrm>
          <a:prstGeom prst="ellipse">
            <a:avLst/>
          </a:prstGeom>
          <a:noFill/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319280" y="5398920"/>
            <a:ext cx="1082520" cy="18288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11640" y="6443640"/>
            <a:ext cx="3816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31640" indent="-2156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corresponding              rectangular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31640" y="6732720"/>
          <a:ext cx="719280" cy="51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" y="6732720"/>
                    <a:ext cx="7192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224000" y="6732720"/>
            <a:ext cx="381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31640" indent="-2156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Perimeter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28720" y="64620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41320" y="2173320"/>
            <a:ext cx="97776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ctal Degree Rectangular Dissection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 Motohashi el.2003 ), </a:t>
            </a:r>
            <a:r>
              <a:rPr b="1" lang="ja-JP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今回利用 </a:t>
            </a:r>
            <a:r>
              <a:rPr b="1" lang="ja-JP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7840" y="1373040"/>
            <a:ext cx="5715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Rectangular Dis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11360" y="2717640"/>
            <a:ext cx="3348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11360" y="2717640"/>
            <a:ext cx="3348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52240" y="6689880"/>
            <a:ext cx="18248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全て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計算時間は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11360" y="2717640"/>
            <a:ext cx="3348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014480" y="3657600"/>
          <a:ext cx="37148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3657600"/>
                    <a:ext cx="3714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5392800" y="3565440"/>
          <a:ext cx="3959280" cy="29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2800" y="3565440"/>
                    <a:ext cx="395928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1639800" y="3124080"/>
            <a:ext cx="7732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fies two adjacent inner cells in a rectangular dis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26360" y="201600"/>
            <a:ext cx="3071520" cy="10857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447840" y="1940040"/>
          <a:ext cx="9253440" cy="40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940040"/>
                    <a:ext cx="925344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487440" y="583560"/>
            <a:ext cx="86090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1 3D  Landform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78880" y="6319800"/>
            <a:ext cx="549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地形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26120" y="688032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072920" y="6284880"/>
            <a:ext cx="1463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対応する矩形分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717480" y="2293920"/>
          <a:ext cx="441324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293920"/>
                    <a:ext cx="44132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"/>
          <p:cNvSpPr/>
          <p:nvPr/>
        </p:nvSpPr>
        <p:spPr>
          <a:xfrm>
            <a:off x="2583000" y="6318360"/>
            <a:ext cx="1329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矩形分割　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30960" y="2124000"/>
            <a:ext cx="25606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8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分グラフの定義のつづ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     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（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α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の説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28960" y="2941560"/>
            <a:ext cx="4454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=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V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λ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44920" y="2882880"/>
            <a:ext cx="155520" cy="195120"/>
          </a:xfrm>
          <a:custGeom>
            <a:avLst/>
            <a:gdLst>
              <a:gd name="textAreaLeft" fmla="*/ 360 w 155520"/>
              <a:gd name="textAreaRight" fmla="*/ 155160 w 155520"/>
              <a:gd name="textAreaTop" fmla="*/ 360 h 195120"/>
              <a:gd name="textAreaBottom" fmla="*/ 194760 h 195120"/>
            </a:gdLst>
            <a:ahLst/>
            <a:rect l="textAreaLeft" t="textAreaTop" r="textAreaRight" b="textAreaBottom"/>
            <a:pathLst>
              <a:path w="21600" h="27087">
                <a:moveTo>
                  <a:pt x="220" y="0"/>
                </a:moveTo>
                <a:arcTo wR="220" hR="220" stAng="16200000" swAng="-5400000"/>
                <a:lnTo>
                  <a:pt x="0" y="26867"/>
                </a:lnTo>
                <a:arcTo wR="220" hR="220" stAng="10800000" swAng="-5400000"/>
                <a:lnTo>
                  <a:pt x="21380" y="27087"/>
                </a:lnTo>
                <a:arcTo wR="220" hR="220" stAng="5400000" swAng="-5400000"/>
                <a:lnTo>
                  <a:pt x="21600" y="220"/>
                </a:lnTo>
                <a:arcTo wR="220" hR="22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63680" y="3492360"/>
            <a:ext cx="127080" cy="152640"/>
          </a:xfrm>
          <a:custGeom>
            <a:avLst/>
            <a:gdLst>
              <a:gd name="textAreaLeft" fmla="*/ 360 w 127080"/>
              <a:gd name="textAreaRight" fmla="*/ 126720 w 127080"/>
              <a:gd name="textAreaTop" fmla="*/ 360 h 152640"/>
              <a:gd name="textAreaBottom" fmla="*/ 152280 h 152640"/>
            </a:gdLst>
            <a:ahLst/>
            <a:rect l="textAreaLeft" t="textAreaTop" r="textAreaRight" b="textAreaBottom"/>
            <a:pathLst>
              <a:path w="21600" h="25932">
                <a:moveTo>
                  <a:pt x="270" y="0"/>
                </a:moveTo>
                <a:arcTo wR="270" hR="270" stAng="16200000" swAng="-5400000"/>
                <a:lnTo>
                  <a:pt x="0" y="25662"/>
                </a:lnTo>
                <a:arcTo wR="270" hR="270" stAng="10800000" swAng="-5400000"/>
                <a:lnTo>
                  <a:pt x="21330" y="25932"/>
                </a:lnTo>
                <a:arcTo wR="270" hR="270" stAng="5400000" swAng="-5400000"/>
                <a:lnTo>
                  <a:pt x="21600" y="270"/>
                </a:lnTo>
                <a:arcTo wR="270" hR="27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27440" y="4016520"/>
            <a:ext cx="155520" cy="195120"/>
          </a:xfrm>
          <a:custGeom>
            <a:avLst/>
            <a:gdLst>
              <a:gd name="textAreaLeft" fmla="*/ 360 w 155520"/>
              <a:gd name="textAreaRight" fmla="*/ 155160 w 155520"/>
              <a:gd name="textAreaTop" fmla="*/ 360 h 195120"/>
              <a:gd name="textAreaBottom" fmla="*/ 194760 h 195120"/>
            </a:gdLst>
            <a:ahLst/>
            <a:rect l="textAreaLeft" t="textAreaTop" r="textAreaRight" b="textAreaBottom"/>
            <a:pathLst>
              <a:path w="21600" h="27087">
                <a:moveTo>
                  <a:pt x="220" y="0"/>
                </a:moveTo>
                <a:arcTo wR="220" hR="220" stAng="16200000" swAng="-5400000"/>
                <a:lnTo>
                  <a:pt x="0" y="26867"/>
                </a:lnTo>
                <a:arcTo wR="220" hR="220" stAng="10800000" swAng="-5400000"/>
                <a:lnTo>
                  <a:pt x="21380" y="27087"/>
                </a:lnTo>
                <a:arcTo wR="220" hR="220" stAng="5400000" swAng="-5400000"/>
                <a:lnTo>
                  <a:pt x="21600" y="220"/>
                </a:lnTo>
                <a:arcTo wR="220" hR="22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290840" y="4014720"/>
            <a:ext cx="155880" cy="195480"/>
          </a:xfrm>
          <a:custGeom>
            <a:avLst/>
            <a:gdLst>
              <a:gd name="textAreaLeft" fmla="*/ 360 w 155880"/>
              <a:gd name="textAreaRight" fmla="*/ 155520 w 155880"/>
              <a:gd name="textAreaTop" fmla="*/ 360 h 195480"/>
              <a:gd name="textAreaBottom" fmla="*/ 195120 h 195480"/>
            </a:gdLst>
            <a:ahLst/>
            <a:rect l="textAreaLeft" t="textAreaTop" r="textAreaRight" b="textAreaBottom"/>
            <a:pathLst>
              <a:path w="21600" h="27075">
                <a:moveTo>
                  <a:pt x="220" y="0"/>
                </a:moveTo>
                <a:arcTo wR="220" hR="220" stAng="16200000" swAng="-5400000"/>
                <a:lnTo>
                  <a:pt x="0" y="26855"/>
                </a:lnTo>
                <a:arcTo wR="220" hR="220" stAng="10800000" swAng="-5400000"/>
                <a:lnTo>
                  <a:pt x="21380" y="27075"/>
                </a:lnTo>
                <a:arcTo wR="220" hR="220" stAng="5400000" swAng="-5400000"/>
                <a:lnTo>
                  <a:pt x="21600" y="220"/>
                </a:lnTo>
                <a:arcTo wR="220" hR="22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95560" y="5299200"/>
            <a:ext cx="155520" cy="195120"/>
          </a:xfrm>
          <a:custGeom>
            <a:avLst/>
            <a:gdLst>
              <a:gd name="textAreaLeft" fmla="*/ 360 w 155520"/>
              <a:gd name="textAreaRight" fmla="*/ 155160 w 155520"/>
              <a:gd name="textAreaTop" fmla="*/ 360 h 195120"/>
              <a:gd name="textAreaBottom" fmla="*/ 194760 h 195120"/>
            </a:gdLst>
            <a:ahLst/>
            <a:rect l="textAreaLeft" t="textAreaTop" r="textAreaRight" b="textAreaBottom"/>
            <a:pathLst>
              <a:path w="21600" h="27087">
                <a:moveTo>
                  <a:pt x="220" y="0"/>
                </a:moveTo>
                <a:arcTo wR="220" hR="220" stAng="16200000" swAng="-5400000"/>
                <a:lnTo>
                  <a:pt x="0" y="26867"/>
                </a:lnTo>
                <a:arcTo wR="220" hR="220" stAng="10800000" swAng="-5400000"/>
                <a:lnTo>
                  <a:pt x="21380" y="27087"/>
                </a:lnTo>
                <a:arcTo wR="220" hR="220" stAng="5400000" swAng="-5400000"/>
                <a:lnTo>
                  <a:pt x="21600" y="220"/>
                </a:lnTo>
                <a:arcTo wR="220" hR="22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249800" y="5273640"/>
            <a:ext cx="155520" cy="166680"/>
          </a:xfrm>
          <a:custGeom>
            <a:avLst/>
            <a:gdLst>
              <a:gd name="textAreaLeft" fmla="*/ 360 w 155520"/>
              <a:gd name="textAreaRight" fmla="*/ 155160 w 155520"/>
              <a:gd name="textAreaTop" fmla="*/ 360 h 166680"/>
              <a:gd name="textAreaBottom" fmla="*/ 166320 h 166680"/>
            </a:gdLst>
            <a:ahLst/>
            <a:rect l="textAreaLeft" t="textAreaTop" r="textAreaRight" b="textAreaBottom"/>
            <a:pathLst>
              <a:path w="21600" h="23146">
                <a:moveTo>
                  <a:pt x="220" y="0"/>
                </a:moveTo>
                <a:arcTo wR="220" hR="220" stAng="16200000" swAng="-5400000"/>
                <a:lnTo>
                  <a:pt x="0" y="22926"/>
                </a:lnTo>
                <a:arcTo wR="220" hR="220" stAng="10800000" swAng="-5400000"/>
                <a:lnTo>
                  <a:pt x="21380" y="23146"/>
                </a:lnTo>
                <a:arcTo wR="220" hR="220" stAng="5400000" swAng="-5400000"/>
                <a:lnTo>
                  <a:pt x="21600" y="220"/>
                </a:lnTo>
                <a:arcTo wR="220" hR="22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986880" y="3451320"/>
            <a:ext cx="80532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8ff"/>
                </a:solidFill>
                <a:latin typeface="Times New Roman"/>
                <a:ea typeface="ＭＳ Ｐゴシック"/>
              </a:rPr>
              <a:t>V</a:t>
            </a:r>
            <a:r>
              <a:rPr b="1" lang="en-GB" sz="1800" spc="-1" strike="noStrike">
                <a:solidFill>
                  <a:srgbClr val="00b8ff"/>
                </a:solidFill>
                <a:latin typeface="Times New Roman"/>
                <a:ea typeface="ＭＳ Ｐゴシック"/>
              </a:rPr>
              <a:t>D</a:t>
            </a:r>
            <a:r>
              <a:rPr b="1" lang="ja-JP" sz="2400" spc="-1" strike="noStrike">
                <a:solidFill>
                  <a:srgbClr val="00b8ff"/>
                </a:solidFill>
                <a:latin typeface="Times New Roman"/>
                <a:ea typeface="ＭＳ Ｐゴシック"/>
              </a:rPr>
              <a:t>＝｛頂点の集合</a:t>
            </a:r>
            <a:r>
              <a:rPr b="0" lang="ja-JP" sz="2400" spc="-1" strike="noStrike">
                <a:solidFill>
                  <a:srgbClr val="00b8ff"/>
                </a:solidFill>
                <a:latin typeface="Times New Roman"/>
                <a:ea typeface="ＭＳ Ｐゴシック"/>
              </a:rPr>
              <a:t>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50080" y="4210200"/>
            <a:ext cx="42130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L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D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＝｛辺のラベル全体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enw, esw, eew, eww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908040" y="3851280"/>
            <a:ext cx="696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E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D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＝｛辺の集合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94280" y="5067360"/>
            <a:ext cx="36529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α</a:t>
            </a:r>
            <a:r>
              <a:rPr b="1" lang="en-GB" sz="18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D</a:t>
            </a:r>
            <a:r>
              <a:rPr b="1" lang="ja-JP" sz="18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：セルの位置・大き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　　 を決める関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　　｛</a:t>
            </a:r>
            <a:r>
              <a:rPr b="1" lang="en-GB" sz="24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nw, sw, ew, ww</a:t>
            </a:r>
            <a:r>
              <a:rPr b="1" lang="ja-JP" sz="18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92400" y="3672000"/>
            <a:ext cx="758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3614760" y="2330280"/>
            <a:ext cx="17280" cy="1231920"/>
          </a:xfrm>
          <a:prstGeom prst="line">
            <a:avLst/>
          </a:prstGeom>
          <a:ln w="720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2192400" y="2317680"/>
            <a:ext cx="17280" cy="1231920"/>
          </a:xfrm>
          <a:prstGeom prst="line">
            <a:avLst/>
          </a:prstGeom>
          <a:ln w="720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785880" y="3562200"/>
            <a:ext cx="1411200" cy="1800"/>
          </a:xfrm>
          <a:prstGeom prst="line">
            <a:avLst/>
          </a:prstGeom>
          <a:ln w="720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771480" y="4776840"/>
            <a:ext cx="1411200" cy="1440"/>
          </a:xfrm>
          <a:prstGeom prst="line">
            <a:avLst/>
          </a:prstGeom>
          <a:ln w="720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62720" y="2001960"/>
            <a:ext cx="695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ew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11360" y="2001960"/>
            <a:ext cx="779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ww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3480" y="3409920"/>
            <a:ext cx="729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nw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48680" y="4665600"/>
            <a:ext cx="678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sw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800" y="632880"/>
            <a:ext cx="86090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2  Octal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"/>
          <p:cNvGraphicFramePr/>
          <p:nvPr/>
        </p:nvGraphicFramePr>
        <p:xfrm>
          <a:off x="704880" y="2295360"/>
          <a:ext cx="441324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295360"/>
                    <a:ext cx="44132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2500560" y="6291360"/>
            <a:ext cx="1329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矩形分割　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08320" y="2109960"/>
            <a:ext cx="2269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定義　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8</a:t>
            </a:r>
            <a:r>
              <a:rPr b="1" lang="ja-JP" sz="32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分グラ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138800" y="3424320"/>
            <a:ext cx="80532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8ff"/>
                </a:solidFill>
                <a:latin typeface="Times New Roman"/>
                <a:ea typeface="ＭＳ Ｐゴシック"/>
              </a:rPr>
              <a:t>V</a:t>
            </a:r>
            <a:r>
              <a:rPr b="1" lang="en-GB" sz="1800" spc="-1" strike="noStrike">
                <a:solidFill>
                  <a:srgbClr val="00b8ff"/>
                </a:solidFill>
                <a:latin typeface="Times New Roman"/>
                <a:ea typeface="ＭＳ Ｐゴシック"/>
              </a:rPr>
              <a:t>D</a:t>
            </a:r>
            <a:r>
              <a:rPr b="1" lang="ja-JP" sz="2400" spc="-1" strike="noStrike">
                <a:solidFill>
                  <a:srgbClr val="00b8ff"/>
                </a:solidFill>
                <a:latin typeface="Times New Roman"/>
                <a:ea typeface="ＭＳ Ｐゴシック"/>
              </a:rPr>
              <a:t>＝｛頂点の集合</a:t>
            </a:r>
            <a:r>
              <a:rPr b="0" lang="ja-JP" sz="2400" spc="-1" strike="noStrike">
                <a:solidFill>
                  <a:srgbClr val="00b8ff"/>
                </a:solidFill>
                <a:latin typeface="Times New Roman"/>
                <a:ea typeface="ＭＳ Ｐゴシック"/>
              </a:rPr>
              <a:t>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01480" y="4191120"/>
            <a:ext cx="696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E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D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＝｛辺の集合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789280" y="3015720"/>
            <a:ext cx="717480" cy="113508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608920" y="3078000"/>
            <a:ext cx="575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e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2069640" y="4127400"/>
            <a:ext cx="747720" cy="122868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03880" y="4941720"/>
            <a:ext cx="491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e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477800" y="3409920"/>
            <a:ext cx="2732040" cy="620640"/>
            <a:chOff x="1477800" y="3409920"/>
            <a:chExt cx="2732040" cy="620640"/>
          </a:xfrm>
        </p:grpSpPr>
        <p:sp>
          <p:nvSpPr>
            <p:cNvPr id="660" name=""/>
            <p:cNvSpPr/>
            <p:nvPr/>
          </p:nvSpPr>
          <p:spPr>
            <a:xfrm flipH="1" flipV="1">
              <a:off x="1477800" y="3409920"/>
              <a:ext cx="1285200" cy="620640"/>
            </a:xfrm>
            <a:prstGeom prst="line">
              <a:avLst/>
            </a:prstGeom>
            <a:ln w="360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86480" y="3987720"/>
              <a:ext cx="1323360" cy="40680"/>
            </a:xfrm>
            <a:prstGeom prst="line">
              <a:avLst/>
            </a:prstGeom>
            <a:ln w="360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1598400" y="3022560"/>
            <a:ext cx="2598480" cy="940320"/>
            <a:chOff x="1598400" y="3022560"/>
            <a:chExt cx="2598480" cy="940320"/>
          </a:xfrm>
        </p:grpSpPr>
        <p:sp>
          <p:nvSpPr>
            <p:cNvPr id="663" name=""/>
            <p:cNvSpPr/>
            <p:nvPr/>
          </p:nvSpPr>
          <p:spPr>
            <a:xfrm>
              <a:off x="1598400" y="3022560"/>
              <a:ext cx="474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2400" spc="-1" strike="noStrike">
                  <a:solidFill>
                    <a:srgbClr val="ff3333"/>
                  </a:solidFill>
                  <a:latin typeface="Times New Roman"/>
                  <a:ea typeface="ＭＳ Ｐゴシック"/>
                </a:rPr>
                <a:t>es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22040" y="3615120"/>
              <a:ext cx="474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2400" spc="-1" strike="noStrike">
                  <a:solidFill>
                    <a:srgbClr val="ff3333"/>
                  </a:solidFill>
                  <a:latin typeface="Times New Roman"/>
                  <a:ea typeface="ＭＳ Ｐゴシック"/>
                </a:rPr>
                <a:t>es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 flipV="1">
            <a:off x="2843280" y="4193640"/>
            <a:ext cx="1380960" cy="1764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0800" y="4321080"/>
            <a:ext cx="524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3333"/>
                </a:solidFill>
                <a:latin typeface="Times New Roman"/>
                <a:ea typeface="ＭＳ Ｐゴシック"/>
              </a:rPr>
              <a:t>en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7360" y="570960"/>
            <a:ext cx="86090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2  Octal Graph [2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91080" y="6792840"/>
            <a:ext cx="5169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（注）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8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分グラフの各頂点から出る辺の数は高々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8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本であ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59000" y="2857680"/>
            <a:ext cx="3023640" cy="2617200"/>
            <a:chOff x="1359000" y="2857680"/>
            <a:chExt cx="3023640" cy="2617200"/>
          </a:xfrm>
        </p:grpSpPr>
        <p:sp>
          <p:nvSpPr>
            <p:cNvPr id="670" name=""/>
            <p:cNvSpPr/>
            <p:nvPr/>
          </p:nvSpPr>
          <p:spPr>
            <a:xfrm>
              <a:off x="3009960" y="3645000"/>
              <a:ext cx="3808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26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1359000" y="2857680"/>
              <a:ext cx="3023640" cy="2617200"/>
              <a:chOff x="1359000" y="2857680"/>
              <a:chExt cx="3023640" cy="2617200"/>
            </a:xfrm>
          </p:grpSpPr>
          <p:sp>
            <p:nvSpPr>
              <p:cNvPr id="672" name=""/>
              <p:cNvSpPr/>
              <p:nvPr/>
            </p:nvSpPr>
            <p:spPr>
              <a:xfrm>
                <a:off x="4200480" y="4033800"/>
                <a:ext cx="153360" cy="1677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228920" y="5292720"/>
                <a:ext cx="153720" cy="1677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45360" y="4005360"/>
                <a:ext cx="153720" cy="1681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59000" y="3291840"/>
                <a:ext cx="153360" cy="1677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961640" y="5307120"/>
                <a:ext cx="153720" cy="1677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59240" y="2857680"/>
                <a:ext cx="153720" cy="1677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74680" y="1660680"/>
            <a:ext cx="822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４分木の手法によるセルの合併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（</a:t>
            </a: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1</a:t>
            </a: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）異なるブロック位置のセルの合併／分割は対象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79600" y="569520"/>
            <a:ext cx="8608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 4.1  Example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4689360" y="3022560"/>
          <a:ext cx="491184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9360" y="3022560"/>
                    <a:ext cx="491184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612720" y="3541680"/>
          <a:ext cx="3799080" cy="28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720" y="3541680"/>
                    <a:ext cx="37990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>
            <a:off x="7351560" y="174600"/>
            <a:ext cx="2362320" cy="8589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274680" y="1662120"/>
            <a:ext cx="822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双対グラフの手法によるセルの合併の計算時間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（</a:t>
            </a: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2</a:t>
            </a: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）下の赤いセルの合併の計算時間は</a:t>
            </a: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O(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9600" y="569520"/>
            <a:ext cx="8608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 4.1  Example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351560" y="174600"/>
            <a:ext cx="2362320" cy="8589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896760" y="3355920"/>
          <a:ext cx="379584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3355920"/>
                    <a:ext cx="379584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"/>
          <p:cNvGraphicFramePr/>
          <p:nvPr/>
        </p:nvGraphicFramePr>
        <p:xfrm>
          <a:off x="5405400" y="3355920"/>
          <a:ext cx="3795840" cy="29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3355920"/>
                    <a:ext cx="379584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83240" y="2982960"/>
            <a:ext cx="102268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1) </a:t>
            </a:r>
            <a:r>
              <a:rPr b="1" lang="ja-JP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多重解像度，および，その動的変化に対応し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　　データ構造の提案</a:t>
            </a: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Compose Multi-Resolution, and data Structure relative mo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transforma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0640" y="4916520"/>
            <a:ext cx="94600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2) </a:t>
            </a:r>
            <a:r>
              <a:rPr b="1" lang="ja-JP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提案したデータ構造を応用した多重解像度</a:t>
            </a: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3D</a:t>
            </a:r>
            <a:r>
              <a:rPr b="1" lang="ja-JP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地形図　　の生成・表示システムの概念モデルの提案</a:t>
            </a:r>
            <a:r>
              <a:rPr b="1" lang="ja-JP" sz="3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Compose model for the system of renderring and transformation of 3D Landform Maps applied data structu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0080" y="559800"/>
            <a:ext cx="86090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6 Purpo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201600"/>
            <a:ext cx="3071520" cy="1085760"/>
          </a:xfrm>
          <a:prstGeom prst="ellipse">
            <a:avLst/>
          </a:prstGeom>
          <a:noFill/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 Introd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33240" y="691560"/>
            <a:ext cx="8609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3.3 </a:t>
            </a:r>
            <a:r>
              <a:rPr b="1" lang="ja-JP" sz="44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地形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</a:t>
            </a:r>
            <a:r>
              <a:rPr b="1" lang="ja-JP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分グラフの特徴</a:t>
            </a:r>
            <a:r>
              <a:rPr b="1" lang="ja-JP" sz="4400" spc="-1" strike="noStrike">
                <a:solidFill>
                  <a:srgbClr val="660099"/>
                </a:solidFill>
                <a:latin typeface="Arial"/>
                <a:ea typeface="ＭＳ Ｐゴシック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3360" y="1844640"/>
            <a:ext cx="9462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1) 4</a:t>
            </a:r>
            <a:r>
              <a:rPr b="1" lang="ja-JP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分木では表現する矩形分割に制約があるが，　　      地形</a:t>
            </a:r>
            <a:r>
              <a:rPr b="1" lang="en-GB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8</a:t>
            </a:r>
            <a:r>
              <a:rPr b="1" lang="ja-JP" sz="28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分グラフではその制約がない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316480" y="3538440"/>
          <a:ext cx="352584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6480" y="3538440"/>
                    <a:ext cx="352584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971640" y="3573360"/>
          <a:ext cx="352260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73360"/>
                    <a:ext cx="35226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723960" y="4500720"/>
            <a:ext cx="827568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1B) </a:t>
            </a: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そのような地形</a:t>
            </a: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8</a:t>
            </a: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分グラフ表現の実装のために，</a:t>
            </a: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H7-Code</a:t>
            </a:r>
            <a:r>
              <a:rPr b="1" lang="ja-JP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と呼ばれるリスト構造を導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0320" y="6345360"/>
            <a:ext cx="9982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(2) 3D</a:t>
            </a:r>
            <a:r>
              <a:rPr b="1" lang="ja-JP" sz="24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地形図生成・表示システムの概念モデル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　　データ流れ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make data flow for model of </a:t>
            </a: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renderring and trans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of 3D Landform Ma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1200" y="5219640"/>
            <a:ext cx="9459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目的</a:t>
            </a:r>
            <a:r>
              <a:rPr b="1" lang="en-GB" sz="20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2:</a:t>
            </a:r>
            <a:r>
              <a:rPr b="1" lang="ja-JP" sz="20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提案したデータ構造を応用した多重解像度</a:t>
            </a:r>
            <a:r>
              <a:rPr b="1" lang="en-GB" sz="20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3D</a:t>
            </a:r>
            <a:r>
              <a:rPr b="1" lang="ja-JP" sz="20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地形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　　　の生成・表示システムの概念モデルの提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ＭＳ 明朝;MS Mincho"/>
                <a:ea typeface="ＭＳ Ｐゴシック"/>
              </a:rPr>
              <a:t>Compose model for the system of renderring and transformation of 3D Landform Maps applied data structu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80"/>
                </a:solidFill>
                <a:latin typeface="ＭＳ 明朝;MS Mincho"/>
                <a:ea typeface="ＭＳ Ｐゴシック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360360"/>
            <a:ext cx="8278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2 BACKGROU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8440" y="2700360"/>
            <a:ext cx="951228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presentation of Rectangular Diss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QuadTre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 Bentley, 1975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Rectangular Du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 kozminski &amp; kinne.1985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Octal Degree Rectangular Dissection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( Motohashi et al.2003 ) employ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52360" y="1258920"/>
            <a:ext cx="8042400" cy="983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We employ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  <a:ea typeface="Arial Unicode MS"/>
              </a:rPr>
              <a:t>Rectangular Dissectio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 to represent 3D Landform Ma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1640" y="1835280"/>
            <a:ext cx="9649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re are a couple of deficiencies in frequently used operations for rectangular dissection  corresponding to multi-resolution 3D landform ma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) unification of cells by quadtre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2) computation time of unify-cells  by rectangula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design a system rendering and transforming 3D Landform Maps, by using octal degree rectangular dissection graph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040" y="433080"/>
            <a:ext cx="8609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 3  MOTIVA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0000" y="5148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040" y="468720"/>
            <a:ext cx="8609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4 Purpose and 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040" y="1187280"/>
            <a:ext cx="9715680" cy="72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Purpose 1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propose a new data structure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lti-resolution 3D landform map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re effective for dynamica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 resolu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Result 1-1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introduce landform octal graph (Sec. 3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Result 1-2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propose a data format named H7-Code for landform octal graphs (sec. 4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3880" y="900000"/>
            <a:ext cx="918684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Purpose 2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implement a system rendering and transforming 3D Landform Maps using landform octal grap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Result 2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design and partially implement system of rendering and transforming 3D Landform Maps (sec. 4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0000" y="703584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赤木剛朗/宮寺庸造/本橋友江/野牧賢志/土田賢省/夜久竹夫</dc:creator>
  <dc:description>2005年11月3日のアメリカのフェニックスにおいて、野牧賢志がこのデータを使って発表を行った。論文は他の発表者が配っていなかったので、その後のJ-Siamにおいて配った。</dc:description>
  <dc:language>en-US</dc:language>
  <cp:lastModifiedBy>夜久</cp:lastModifiedBy>
  <dcterms:modified xsi:type="dcterms:W3CDTF">2005-11-09T07:06:35Z</dcterms:modified>
  <cp:revision>32</cp:revision>
  <dc:subject/>
  <dc:title>Octal Graph Representation for Multi-Resolution 3D lamdform maps</dc:title>
</cp:coreProperties>
</file>