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13B-758F-40EC-ADC5-191A74CE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109-A735-4A92-81B0-3F5E7B0A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DFC-5584-46A1-A123-E9B9BAE7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E99-736C-4517-8046-77F153CB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86F-F000-4E08-ABEE-87E3AC89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A14-F7E3-4761-8A45-AE6434F1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73D-81C8-46EE-986E-43B26D31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8827-F981-4F85-BA68-9D718FEC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F0C-D3A8-48ED-98B6-55DA04C9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684-90D8-472A-B4C4-AF6DAEC6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EB57-C0C6-4C02-B06D-31A7139E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218-E967-4E9C-A86D-95219BBF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9B7D-BBC5-4369-B5DC-E7D5E444B6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3120" y="1184400"/>
            <a:ext cx="1828800" cy="4064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lect a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1360" y="1787400"/>
            <a:ext cx="2629080" cy="71136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 the form grap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the selected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867120"/>
            <a:ext cx="2514600" cy="7621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alyze synta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the form grap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906800"/>
            <a:ext cx="251460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9080" y="5722920"/>
            <a:ext cx="3009960" cy="4428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w the derivation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029040"/>
            <a:ext cx="2667240" cy="5587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w the form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304920"/>
            <a:ext cx="1295640" cy="6094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8245440"/>
            <a:ext cx="1295640" cy="6094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7" idx="2"/>
            <a:endCxn id="41" idx="0"/>
          </p:cNvCxnSpPr>
          <p:nvPr/>
        </p:nvCxnSpPr>
        <p:spPr>
          <a:xfrm>
            <a:off x="1486080" y="914400"/>
            <a:ext cx="1800" cy="270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  <a:endCxn id="42" idx="0"/>
          </p:cNvCxnSpPr>
          <p:nvPr/>
        </p:nvCxnSpPr>
        <p:spPr>
          <a:xfrm flipH="1">
            <a:off x="1486080" y="1590840"/>
            <a:ext cx="1800" cy="19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2" idx="2"/>
            <a:endCxn id="46" idx="0"/>
          </p:cNvCxnSpPr>
          <p:nvPr/>
        </p:nvCxnSpPr>
        <p:spPr>
          <a:xfrm>
            <a:off x="1486080" y="2498760"/>
            <a:ext cx="360" cy="53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6" idx="2"/>
            <a:endCxn id="43" idx="0"/>
          </p:cNvCxnSpPr>
          <p:nvPr/>
        </p:nvCxnSpPr>
        <p:spPr>
          <a:xfrm>
            <a:off x="1486080" y="3587760"/>
            <a:ext cx="360" cy="27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43" idx="2"/>
            <a:endCxn id="44" idx="0"/>
          </p:cNvCxnSpPr>
          <p:nvPr/>
        </p:nvCxnSpPr>
        <p:spPr>
          <a:xfrm>
            <a:off x="1486080" y="4629240"/>
            <a:ext cx="360" cy="27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44" idx="2"/>
            <a:endCxn id="45" idx="0"/>
          </p:cNvCxnSpPr>
          <p:nvPr/>
        </p:nvCxnSpPr>
        <p:spPr>
          <a:xfrm>
            <a:off x="1486080" y="5440320"/>
            <a:ext cx="360" cy="28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2816280" y="1030320"/>
            <a:ext cx="349200" cy="1641600"/>
          </a:xfrm>
          <a:custGeom>
            <a:avLst/>
            <a:gdLst>
              <a:gd name="textAreaLeft" fmla="*/ 0 w 349200"/>
              <a:gd name="textAreaRight" fmla="*/ 126000 w 349200"/>
              <a:gd name="textAreaTop" fmla="*/ 42480 h 1641600"/>
              <a:gd name="textAreaBottom" fmla="*/ 1599120 h 164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1320" y="1655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’s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90880" y="2916360"/>
            <a:ext cx="361800" cy="3324240"/>
          </a:xfrm>
          <a:custGeom>
            <a:avLst/>
            <a:gdLst>
              <a:gd name="textAreaLeft" fmla="*/ 0 w 361800"/>
              <a:gd name="textAreaRight" fmla="*/ 130680 w 361800"/>
              <a:gd name="textAreaTop" fmla="*/ 86400 h 3324240"/>
              <a:gd name="textAreaBottom" fmla="*/ 3237840 h 33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98840" y="438624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Process of Hiform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1840" y="6456240"/>
            <a:ext cx="2554200" cy="681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 the t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080" y="7445520"/>
            <a:ext cx="2554200" cy="46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w th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33720" y="6429240"/>
            <a:ext cx="217440" cy="1582920"/>
          </a:xfrm>
          <a:custGeom>
            <a:avLst/>
            <a:gdLst>
              <a:gd name="textAreaLeft" fmla="*/ 0 w 217440"/>
              <a:gd name="textAreaRight" fmla="*/ 78480 w 21744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08840" y="707220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Process of Hiform 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6:49:13Z</dcterms:created>
  <dc:creator>有田　友和</dc:creator>
  <dc:description/>
  <dc:language>en-US</dc:language>
  <cp:lastModifiedBy>有田　友和</cp:lastModifiedBy>
  <dcterms:modified xsi:type="dcterms:W3CDTF">2003-01-05T05:06:20Z</dcterms:modified>
  <cp:revision>1</cp:revision>
  <dc:subject/>
  <dc:title>PowerPoint プレゼンテーション</dc:title>
</cp:coreProperties>
</file>